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694863" cy="758825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2"/>
          </p:nvPr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5B7BC9-7D96-4F84-AC78-F92024FB8DC3}" type="datetime3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sldImg"/>
          </p:nvPr>
        </p:nvSpPr>
        <p:spPr>
          <a:xfrm>
            <a:off x="1204920" y="698400"/>
            <a:ext cx="444960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 type="sldNum" idx="4"/>
          </p:nvPr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E79CDF-5C3E-4480-B97B-ED0703617D0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204920" y="698400"/>
            <a:ext cx="4449600" cy="34848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Date Placeholder 3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93E76B-DEF4-4DD5-8393-2F1F94E9EDDC}" type="datetime3">
              <a:rPr b="0" lang="en-US" sz="11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Header Placeholder 4"/>
          <p:cNvSpPr/>
          <p:nvPr/>
        </p:nvSpPr>
        <p:spPr>
          <a:xfrm>
            <a:off x="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204920" y="698400"/>
            <a:ext cx="4449600" cy="34848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Header Placeholder 3"/>
          <p:cNvSpPr/>
          <p:nvPr/>
        </p:nvSpPr>
        <p:spPr>
          <a:xfrm>
            <a:off x="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Date Placeholder 4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006A7B-5BE8-4D20-99D8-6DA781473DED}" type="datetime3">
              <a:rPr b="0" lang="en-US" sz="11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204920" y="698400"/>
            <a:ext cx="4449600" cy="34848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Header Placeholder 3"/>
          <p:cNvSpPr/>
          <p:nvPr/>
        </p:nvSpPr>
        <p:spPr>
          <a:xfrm>
            <a:off x="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Date Placeholder 4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F3BFF9-5A8E-4DC8-A551-5FF022E296FC}" type="datetime3">
              <a:rPr b="0" lang="en-US" sz="11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204920" y="698400"/>
            <a:ext cx="4449600" cy="34848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Header Placeholder 3"/>
          <p:cNvSpPr/>
          <p:nvPr/>
        </p:nvSpPr>
        <p:spPr>
          <a:xfrm>
            <a:off x="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Date Placeholder 4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F0464A-8DCF-4A5D-86D6-F581E9DD4920}" type="datetime3">
              <a:rPr b="0" lang="en-US" sz="11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204920" y="698400"/>
            <a:ext cx="4449600" cy="34848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Header Placeholder 3"/>
          <p:cNvSpPr/>
          <p:nvPr/>
        </p:nvSpPr>
        <p:spPr>
          <a:xfrm>
            <a:off x="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Date Placeholder 4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02AF2F-834F-41E1-9B25-C7E1467C49C3}" type="datetime3">
              <a:rPr b="0" lang="en-US" sz="11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204920" y="698400"/>
            <a:ext cx="4449600" cy="34848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Header Placeholder 3"/>
          <p:cNvSpPr/>
          <p:nvPr/>
        </p:nvSpPr>
        <p:spPr>
          <a:xfrm>
            <a:off x="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Date Placeholder 4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D3D77F-7833-4581-9223-EFB0464D0BB6}" type="datetime3">
              <a:rPr b="0" lang="en-US" sz="11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204920" y="698400"/>
            <a:ext cx="4449600" cy="34848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Header Placeholder 3"/>
          <p:cNvSpPr/>
          <p:nvPr/>
        </p:nvSpPr>
        <p:spPr>
          <a:xfrm>
            <a:off x="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Date Placeholder 4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56C530-BF91-4E91-B688-6254494D7F36}" type="datetime3">
              <a:rPr b="0" lang="en-US" sz="11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3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DA2D6D-A317-4DAD-940A-5C6B3061E273}" type="datetime2"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85EB76-427F-4A09-8238-896D9445C78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03480" y="696960"/>
            <a:ext cx="4452840" cy="3486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3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B95BAC-259F-404D-98FC-300D77CD2BEF}" type="datetime2"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7475C9-D636-42B2-AF1F-945835C543B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03480" y="696960"/>
            <a:ext cx="4452840" cy="3486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3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809360-EA15-4F13-95FF-B234ADAA75E0}" type="datetime2"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92A1C6-0724-44BB-9E3C-B5110FAFBB0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203480" y="696960"/>
            <a:ext cx="4452840" cy="348624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3"/>
          <p:cNvSpPr/>
          <p:nvPr/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12E1CF-1517-4086-B2AA-C16DBC9720BD}" type="datetime2"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6B1A97-AD9A-4E92-8C2F-C3DBB739F75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204920" y="698400"/>
            <a:ext cx="4449600" cy="34848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7240" y="4417560"/>
            <a:ext cx="5483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84560" y="302760"/>
            <a:ext cx="872496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4560" y="4074480"/>
            <a:ext cx="872496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55400" y="177552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8456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955400" y="4074480"/>
            <a:ext cx="425772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43440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384240" y="177552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8456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43440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384240" y="4074480"/>
            <a:ext cx="2809080" cy="20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rawing2"/>
          <p:cNvPicPr/>
          <p:nvPr/>
        </p:nvPicPr>
        <p:blipFill>
          <a:blip r:embed="rId2"/>
          <a:stretch/>
        </p:blipFill>
        <p:spPr>
          <a:xfrm>
            <a:off x="-426960" y="-457200"/>
            <a:ext cx="10120320" cy="8047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0"/>
          <p:cNvSpPr/>
          <p:nvPr/>
        </p:nvSpPr>
        <p:spPr>
          <a:xfrm>
            <a:off x="11160" y="6562800"/>
            <a:ext cx="2050920" cy="96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ack font:  Recruit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Green font: Deployed On-Sit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Red font: Departing or Vaca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Blue font:  New Hire / In process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800" spc="-1" strike="noStrike">
                <a:solidFill>
                  <a:srgbClr val="cc00ff"/>
                </a:solidFill>
                <a:latin typeface="Arial"/>
              </a:rPr>
              <a:t>Violet font:  Internal Transf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80"/>
          <p:cNvGrpSpPr/>
          <p:nvPr/>
        </p:nvGrpSpPr>
        <p:grpSpPr>
          <a:xfrm>
            <a:off x="4038480" y="5845320"/>
            <a:ext cx="5618160" cy="1690560"/>
            <a:chOff x="4038480" y="5845320"/>
            <a:chExt cx="5618160" cy="1690560"/>
          </a:xfrm>
        </p:grpSpPr>
        <p:sp>
          <p:nvSpPr>
            <p:cNvPr id="3" name=""/>
            <p:cNvSpPr/>
            <p:nvPr/>
          </p:nvSpPr>
          <p:spPr>
            <a:xfrm>
              <a:off x="4038480" y="584532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-I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59400" y="5845320"/>
              <a:ext cx="20206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dget Analyst - Intermedi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580080" y="584532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 - I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101000" y="5845320"/>
              <a:ext cx="25556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gistician - Intermedi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038480" y="597528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59400" y="5975280"/>
              <a:ext cx="2020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dget Analyst –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80080" y="597528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01000" y="5975280"/>
              <a:ext cx="25556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Specialist –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38480" y="610560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T-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559400" y="6105600"/>
              <a:ext cx="20206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onics Technician - Entry Leve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80080" y="610560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-S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101000" y="6105600"/>
              <a:ext cx="25556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Specialist - Senior/Lea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038480" y="623556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T-I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559400" y="6235560"/>
              <a:ext cx="2020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onics Technician – Intermedi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580080" y="623556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-I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101000" y="6235560"/>
              <a:ext cx="25556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 Administrator – Intermedi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038480" y="636588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T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559400" y="6365880"/>
              <a:ext cx="2020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onics Technician –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580080" y="636588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101000" y="6365880"/>
              <a:ext cx="25556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 Assistant –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038480" y="6496200"/>
              <a:ext cx="5209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T-S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559400" y="6496200"/>
              <a:ext cx="202068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onics Technician - Senior/Lea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580080" y="6496200"/>
              <a:ext cx="5209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D-S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01000" y="6496200"/>
              <a:ext cx="255564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 Manager, Deputy - Senior/Lea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38480" y="662472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A-I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559400" y="6624720"/>
              <a:ext cx="20206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Analyst  - Intermedi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580080" y="662472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101000" y="6624720"/>
              <a:ext cx="25556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mer Analyst –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038480" y="675468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A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559400" y="6754680"/>
              <a:ext cx="2020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Analyst  -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580080" y="675468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S-I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01000" y="6754680"/>
              <a:ext cx="25556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erty Management Specialist – Intermedi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038480" y="688500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A-S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4559400" y="6885000"/>
              <a:ext cx="2020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Analyst  - Senior/Lea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6580080" y="688500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S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101000" y="6885000"/>
              <a:ext cx="25556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erty Management Specialist -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038480" y="701532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T-I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559400" y="7015320"/>
              <a:ext cx="20206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Technician – Intermedi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580080" y="701532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S-S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101000" y="7015320"/>
              <a:ext cx="25556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erty Management Specialist - Senior/Lea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038480" y="714528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T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59400" y="7145280"/>
              <a:ext cx="2020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Technician –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580080" y="714528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-I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01000" y="7145280"/>
              <a:ext cx="25556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y Clerk - Intermediate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8480" y="727560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T-S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59400" y="7275600"/>
              <a:ext cx="20206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Technician - Senior/Lea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0080" y="7275600"/>
              <a:ext cx="520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-J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01000" y="7275600"/>
              <a:ext cx="25556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y Clerk - Journeyman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38480" y="740556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L-SL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59400" y="7405560"/>
              <a:ext cx="2020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Logistician – Senior Lead</a:t>
              </a: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80080" y="7405560"/>
              <a:ext cx="520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01000" y="7405560"/>
              <a:ext cx="25556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59400" y="5845320"/>
              <a:ext cx="0" cy="169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80080" y="5845320"/>
              <a:ext cx="0" cy="169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01000" y="5845320"/>
              <a:ext cx="0" cy="169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38480" y="597528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38480" y="610560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38480" y="623556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8480" y="636588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649620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662472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675468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38480" y="688500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8480" y="701532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38480" y="714528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8480" y="727560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38480" y="740556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5845320"/>
              <a:ext cx="0" cy="169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656640" y="5845320"/>
              <a:ext cx="0" cy="169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8480" y="584532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38480" y="7535880"/>
              <a:ext cx="561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47"/>
          <p:cNvSpPr/>
          <p:nvPr/>
        </p:nvSpPr>
        <p:spPr>
          <a:xfrm>
            <a:off x="-65160" y="9360"/>
            <a:ext cx="1552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NOVEMBER 20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8"/>
          <p:cNvSpPr/>
          <p:nvPr/>
        </p:nvSpPr>
        <p:spPr>
          <a:xfrm>
            <a:off x="2303640" y="-15840"/>
            <a:ext cx="464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COM LCMC – South West As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9"/>
          <p:cNvSpPr/>
          <p:nvPr/>
        </p:nvSpPr>
        <p:spPr>
          <a:xfrm>
            <a:off x="9107640" y="0"/>
            <a:ext cx="701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5E696E-6078-47CB-8CBB-D3383CD9990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dt" idx="1"/>
          </p:nvPr>
        </p:nvSpPr>
        <p:spPr>
          <a:xfrm>
            <a:off x="7431120" y="7221240"/>
            <a:ext cx="2262240" cy="3682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40AF73-16A9-49CA-8567-19D9F411FE5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cxnSp>
        <p:nvCxnSpPr>
          <p:cNvPr id="152" name="Elbow Connector 7"/>
          <p:cNvCxnSpPr/>
          <p:nvPr/>
        </p:nvCxnSpPr>
        <p:spPr>
          <a:xfrm flipV="1">
            <a:off x="1987200" y="1310760"/>
            <a:ext cx="1424520" cy="548640"/>
          </a:xfrm>
          <a:prstGeom prst="bentConnector3">
            <a:avLst>
              <a:gd name="adj1" fmla="val 7735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53" name="Straight Connector 82"/>
          <p:cNvSpPr/>
          <p:nvPr/>
        </p:nvSpPr>
        <p:spPr>
          <a:xfrm>
            <a:off x="5978520" y="1311120"/>
            <a:ext cx="620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6"/>
          <p:cNvSpPr/>
          <p:nvPr/>
        </p:nvSpPr>
        <p:spPr>
          <a:xfrm flipV="1">
            <a:off x="2889360" y="3343320"/>
            <a:ext cx="0" cy="123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_s2071"/>
          <p:cNvSpPr/>
          <p:nvPr/>
        </p:nvSpPr>
        <p:spPr>
          <a:xfrm>
            <a:off x="325440" y="3906720"/>
            <a:ext cx="1736640" cy="8226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 Manager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mp Anaconda, Balad, Iraq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_s2071"/>
          <p:cNvSpPr/>
          <p:nvPr/>
        </p:nvSpPr>
        <p:spPr>
          <a:xfrm>
            <a:off x="5361120" y="3909960"/>
            <a:ext cx="1657080" cy="142884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 Manag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gram AB, Bagram, AF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2"/>
          <p:cNvSpPr/>
          <p:nvPr/>
        </p:nvSpPr>
        <p:spPr>
          <a:xfrm flipH="1">
            <a:off x="4680000" y="1755720"/>
            <a:ext cx="1440" cy="993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_s2070"/>
          <p:cNvSpPr/>
          <p:nvPr/>
        </p:nvSpPr>
        <p:spPr>
          <a:xfrm>
            <a:off x="3402000" y="646200"/>
            <a:ext cx="2581200" cy="11491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40" rIns="5040" tIns="2520" bIns="252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97"/>
          <p:cNvSpPr/>
          <p:nvPr/>
        </p:nvSpPr>
        <p:spPr>
          <a:xfrm>
            <a:off x="1049400" y="836640"/>
            <a:ext cx="1861920" cy="9144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9"/>
          <p:cNvSpPr/>
          <p:nvPr/>
        </p:nvSpPr>
        <p:spPr>
          <a:xfrm>
            <a:off x="1049400" y="1968480"/>
            <a:ext cx="1861920" cy="9144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am Controll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7"/>
          <p:cNvSpPr/>
          <p:nvPr/>
        </p:nvSpPr>
        <p:spPr>
          <a:xfrm flipV="1">
            <a:off x="6570720" y="3340080"/>
            <a:ext cx="0" cy="123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_s2071"/>
          <p:cNvSpPr/>
          <p:nvPr/>
        </p:nvSpPr>
        <p:spPr>
          <a:xfrm>
            <a:off x="2160720" y="3909960"/>
            <a:ext cx="1736640" cy="82224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 Manager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mp Liberty, Baghdad, Iraq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_s2071"/>
          <p:cNvSpPr/>
          <p:nvPr/>
        </p:nvSpPr>
        <p:spPr>
          <a:xfrm>
            <a:off x="2157480" y="4818240"/>
            <a:ext cx="1736640" cy="82224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 Manager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allil, Iraq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_s2071"/>
          <p:cNvSpPr/>
          <p:nvPr/>
        </p:nvSpPr>
        <p:spPr>
          <a:xfrm>
            <a:off x="320760" y="4818240"/>
            <a:ext cx="1736640" cy="82224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 Manager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OB Speicher, Tikrit, Iraq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8"/>
          <p:cNvSpPr/>
          <p:nvPr/>
        </p:nvSpPr>
        <p:spPr>
          <a:xfrm>
            <a:off x="-423720" y="196920"/>
            <a:ext cx="10117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 Support Center (RSC) - Management Te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51"/>
          <p:cNvSpPr/>
          <p:nvPr/>
        </p:nvSpPr>
        <p:spPr>
          <a:xfrm>
            <a:off x="6354720" y="973080"/>
            <a:ext cx="1784520" cy="70344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C Deputy Regional Manag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99"/>
          <p:cNvSpPr/>
          <p:nvPr/>
        </p:nvSpPr>
        <p:spPr>
          <a:xfrm>
            <a:off x="3517920" y="741240"/>
            <a:ext cx="2327400" cy="905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or,  South West Asia (SWA)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p Arifjan, Kuwai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72"/>
          <p:cNvSpPr/>
          <p:nvPr/>
        </p:nvSpPr>
        <p:spPr>
          <a:xfrm flipH="1">
            <a:off x="2972880" y="3424320"/>
            <a:ext cx="3187800" cy="23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1"/>
          <p:cNvSpPr/>
          <p:nvPr/>
        </p:nvSpPr>
        <p:spPr>
          <a:xfrm>
            <a:off x="6161040" y="3224160"/>
            <a:ext cx="1943280" cy="3999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E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2"/>
          <p:cNvSpPr/>
          <p:nvPr/>
        </p:nvSpPr>
        <p:spPr>
          <a:xfrm>
            <a:off x="7018200" y="4624560"/>
            <a:ext cx="228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_s2070"/>
          <p:cNvSpPr/>
          <p:nvPr/>
        </p:nvSpPr>
        <p:spPr>
          <a:xfrm>
            <a:off x="3589200" y="2766960"/>
            <a:ext cx="2187720" cy="10857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40" rIns="5040" tIns="2520" bIns="2520" anchor="t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ATER OPERATIONS MANAG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34"/>
          <p:cNvSpPr/>
          <p:nvPr/>
        </p:nvSpPr>
        <p:spPr>
          <a:xfrm>
            <a:off x="1979640" y="1751040"/>
            <a:ext cx="0" cy="217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Connector 42"/>
          <p:cNvCxnSpPr/>
          <p:nvPr/>
        </p:nvCxnSpPr>
        <p:spPr>
          <a:xfrm rot="5400000">
            <a:off x="1154160" y="4283640"/>
            <a:ext cx="1848600" cy="43560"/>
          </a:xfrm>
          <a:prstGeom prst="bentConnector2">
            <a:avLst/>
          </a:prstGeom>
          <a:ln w="3240">
            <a:solidFill>
              <a:srgbClr val="000000"/>
            </a:solidFill>
            <a:round/>
          </a:ln>
        </p:spPr>
      </p:cxnSp>
      <p:sp>
        <p:nvSpPr>
          <p:cNvPr id="174" name="Straight Connector 25"/>
          <p:cNvSpPr/>
          <p:nvPr/>
        </p:nvSpPr>
        <p:spPr>
          <a:xfrm flipH="1" flipV="1">
            <a:off x="2057400" y="5229360"/>
            <a:ext cx="1000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6"/>
          <p:cNvSpPr/>
          <p:nvPr/>
        </p:nvSpPr>
        <p:spPr>
          <a:xfrm flipH="1" flipV="1">
            <a:off x="2062080" y="4317480"/>
            <a:ext cx="9864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27"/>
          <p:cNvSpPr/>
          <p:nvPr/>
        </p:nvSpPr>
        <p:spPr>
          <a:xfrm>
            <a:off x="7132680" y="3624120"/>
            <a:ext cx="0" cy="971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1"/>
          <p:cNvSpPr/>
          <p:nvPr/>
        </p:nvSpPr>
        <p:spPr>
          <a:xfrm>
            <a:off x="1131840" y="3224160"/>
            <a:ext cx="1943280" cy="3999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I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_s2071"/>
          <p:cNvSpPr/>
          <p:nvPr/>
        </p:nvSpPr>
        <p:spPr>
          <a:xfrm>
            <a:off x="7246800" y="3909960"/>
            <a:ext cx="1722600" cy="142884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te Manager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Kandahar, AF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sp>
        <p:nvSpPr>
          <p:cNvPr id="216" name="_s2071"/>
          <p:cNvSpPr/>
          <p:nvPr/>
        </p:nvSpPr>
        <p:spPr>
          <a:xfrm>
            <a:off x="3787920" y="1311120"/>
            <a:ext cx="3614760" cy="4383360"/>
          </a:xfrm>
          <a:custGeom>
            <a:avLst/>
            <a:gdLst>
              <a:gd name="textAreaLeft" fmla="*/ 82080 w 3614760"/>
              <a:gd name="textAreaRight" fmla="*/ 3532680 w 3614760"/>
              <a:gd name="textAreaTop" fmla="*/ 82080 h 4383360"/>
              <a:gd name="textAreaBottom" fmla="*/ 4301280 h 4383360"/>
            </a:gdLst>
            <a:ahLst/>
            <a:rect l="textAreaLeft" t="textAreaTop" r="textAreaRight" b="textAreaBottom"/>
            <a:pathLst>
              <a:path w="21600" h="26192">
                <a:moveTo>
                  <a:pt x="1678" y="0"/>
                </a:moveTo>
                <a:arcTo wR="1678" hR="1678" stAng="16200000" swAng="-5400000"/>
                <a:lnTo>
                  <a:pt x="0" y="24514"/>
                </a:lnTo>
                <a:arcTo wR="1678" hR="1678" stAng="10800000" swAng="-5400000"/>
                <a:lnTo>
                  <a:pt x="19922" y="26192"/>
                </a:lnTo>
                <a:arcTo wR="1678" hR="1678" stAng="5400000" swAng="-5400000"/>
                <a:lnTo>
                  <a:pt x="21600" y="1678"/>
                </a:lnTo>
                <a:arcTo wR="1678" hR="1678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ater Generator Facil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mp Arifjan, Kuwait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_s2071"/>
          <p:cNvSpPr/>
          <p:nvPr/>
        </p:nvSpPr>
        <p:spPr>
          <a:xfrm>
            <a:off x="0" y="1311120"/>
            <a:ext cx="3724200" cy="4383360"/>
          </a:xfrm>
          <a:custGeom>
            <a:avLst/>
            <a:gdLst>
              <a:gd name="textAreaLeft" fmla="*/ 79200 w 3724200"/>
              <a:gd name="textAreaRight" fmla="*/ 3645000 w 3724200"/>
              <a:gd name="textAreaTop" fmla="*/ 79200 h 4383360"/>
              <a:gd name="textAreaBottom" fmla="*/ 4304160 h 4383360"/>
            </a:gdLst>
            <a:ahLst/>
            <a:rect l="textAreaLeft" t="textAreaTop" r="textAreaRight" b="textAreaBottom"/>
            <a:pathLst>
              <a:path w="21600" h="25423">
                <a:moveTo>
                  <a:pt x="1575" y="0"/>
                </a:moveTo>
                <a:arcTo wR="1575" hR="1575" stAng="16200000" swAng="-5400000"/>
                <a:lnTo>
                  <a:pt x="0" y="23848"/>
                </a:lnTo>
                <a:arcTo wR="1575" hR="1575" stAng="10800000" swAng="-5400000"/>
                <a:lnTo>
                  <a:pt x="20025" y="25423"/>
                </a:lnTo>
                <a:arcTo wR="1575" hR="1575" stAng="5400000" swAng="-5400000"/>
                <a:lnTo>
                  <a:pt x="21600" y="1575"/>
                </a:lnTo>
                <a:arcTo wR="1575" hR="1575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ater Support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mp Arifjan, Kuwait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5"/>
          <p:cNvSpPr/>
          <p:nvPr/>
        </p:nvSpPr>
        <p:spPr>
          <a:xfrm>
            <a:off x="-417600" y="195120"/>
            <a:ext cx="10110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 Support Center (RSC) - Theater Supp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79"/>
          <p:cNvSpPr/>
          <p:nvPr/>
        </p:nvSpPr>
        <p:spPr>
          <a:xfrm>
            <a:off x="103320" y="1932120"/>
            <a:ext cx="1714320" cy="2492280"/>
          </a:xfrm>
          <a:custGeom>
            <a:avLst/>
            <a:gdLst>
              <a:gd name="textAreaLeft" fmla="*/ 59400 w 1714320"/>
              <a:gd name="textAreaRight" fmla="*/ 1654920 w 1714320"/>
              <a:gd name="textAreaTop" fmla="*/ 59400 h 2492280"/>
              <a:gd name="textAreaBottom" fmla="*/ 2432880 h 2492280"/>
            </a:gdLst>
            <a:ahLst/>
            <a:rect l="textAreaLeft" t="textAreaTop" r="textAreaRight" b="textAreaBottom"/>
            <a:pathLst>
              <a:path w="21600" h="31400">
                <a:moveTo>
                  <a:pt x="2565" y="0"/>
                </a:moveTo>
                <a:arcTo wR="2565" hR="2565" stAng="16200000" swAng="-5400000"/>
                <a:lnTo>
                  <a:pt x="0" y="28835"/>
                </a:lnTo>
                <a:arcTo wR="2565" hR="2565" stAng="10800000" swAng="-5400000"/>
                <a:lnTo>
                  <a:pt x="19035" y="31400"/>
                </a:lnTo>
                <a:arcTo wR="2565" hR="2565" stAng="5400000" swAng="-5400000"/>
                <a:lnTo>
                  <a:pt x="21600" y="2565"/>
                </a:lnTo>
                <a:arcTo wR="2565" hR="2565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83"/>
          <p:cNvSpPr/>
          <p:nvPr/>
        </p:nvSpPr>
        <p:spPr>
          <a:xfrm>
            <a:off x="1889280" y="2881440"/>
            <a:ext cx="1798560" cy="5475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CU’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85"/>
          <p:cNvSpPr/>
          <p:nvPr/>
        </p:nvSpPr>
        <p:spPr>
          <a:xfrm>
            <a:off x="1879560" y="2004840"/>
            <a:ext cx="1808280" cy="8035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hanced TrackWolf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97"/>
          <p:cNvSpPr/>
          <p:nvPr/>
        </p:nvSpPr>
        <p:spPr>
          <a:xfrm>
            <a:off x="5649840" y="2771640"/>
            <a:ext cx="1679760" cy="2660760"/>
          </a:xfrm>
          <a:custGeom>
            <a:avLst/>
            <a:gdLst>
              <a:gd name="textAreaLeft" fmla="*/ 38160 w 1679760"/>
              <a:gd name="textAreaRight" fmla="*/ 1641600 w 1679760"/>
              <a:gd name="textAreaTop" fmla="*/ 38160 h 2660760"/>
              <a:gd name="textAreaBottom" fmla="*/ 2622600 h 2660760"/>
            </a:gdLst>
            <a:ahLst/>
            <a:rect l="textAreaLeft" t="textAreaTop" r="textAreaRight" b="textAreaBottom"/>
            <a:pathLst>
              <a:path w="21600" h="34212">
                <a:moveTo>
                  <a:pt x="1675" y="0"/>
                </a:moveTo>
                <a:arcTo wR="1675" hR="1675" stAng="16200000" swAng="-5400000"/>
                <a:lnTo>
                  <a:pt x="0" y="32537"/>
                </a:lnTo>
                <a:arcTo wR="1675" hR="1675" stAng="10800000" swAng="-5400000"/>
                <a:lnTo>
                  <a:pt x="19925" y="34212"/>
                </a:lnTo>
                <a:arcTo wR="1675" hR="1675" stAng="5400000" swAng="-5400000"/>
                <a:lnTo>
                  <a:pt x="21600" y="1675"/>
                </a:lnTo>
                <a:arcTo wR="1675" hR="1675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chan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01"/>
          <p:cNvSpPr/>
          <p:nvPr/>
        </p:nvSpPr>
        <p:spPr>
          <a:xfrm>
            <a:off x="3859200" y="4927680"/>
            <a:ext cx="1717560" cy="5112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eign Nationa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9"/>
          <p:cNvSpPr/>
          <p:nvPr/>
        </p:nvSpPr>
        <p:spPr>
          <a:xfrm>
            <a:off x="3860640" y="2771640"/>
            <a:ext cx="1752840" cy="1424160"/>
          </a:xfrm>
          <a:prstGeom prst="roundRect">
            <a:avLst>
              <a:gd name="adj" fmla="val 11042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90"/>
          <p:cNvSpPr/>
          <p:nvPr/>
        </p:nvSpPr>
        <p:spPr>
          <a:xfrm>
            <a:off x="4554360" y="1785960"/>
            <a:ext cx="1982880" cy="81432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cility Manage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83"/>
          <p:cNvSpPr/>
          <p:nvPr/>
        </p:nvSpPr>
        <p:spPr>
          <a:xfrm>
            <a:off x="1874880" y="3502080"/>
            <a:ext cx="1771560" cy="1949400"/>
          </a:xfrm>
          <a:custGeom>
            <a:avLst/>
            <a:gdLst>
              <a:gd name="textAreaLeft" fmla="*/ 57240 w 1771560"/>
              <a:gd name="textAreaRight" fmla="*/ 1714320 w 1771560"/>
              <a:gd name="textAreaTop" fmla="*/ 57240 h 1949400"/>
              <a:gd name="textAreaBottom" fmla="*/ 1892160 h 1949400"/>
            </a:gdLst>
            <a:ahLst/>
            <a:rect l="textAreaLeft" t="textAreaTop" r="textAreaRight" b="textAreaBottom"/>
            <a:pathLst>
              <a:path w="21600" h="23768">
                <a:moveTo>
                  <a:pt x="2384" y="0"/>
                </a:moveTo>
                <a:arcTo wR="2384" hR="2384" stAng="16200000" swAng="-5400000"/>
                <a:lnTo>
                  <a:pt x="0" y="21384"/>
                </a:lnTo>
                <a:arcTo wR="2384" hR="2384" stAng="10800000" swAng="-5400000"/>
                <a:lnTo>
                  <a:pt x="19216" y="23768"/>
                </a:lnTo>
                <a:arcTo wR="2384" hR="2384" stAng="5400000" swAng="-5400000"/>
                <a:lnTo>
                  <a:pt x="21600" y="2384"/>
                </a:lnTo>
                <a:arcTo wR="2384" hR="2384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ction Contro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01"/>
          <p:cNvSpPr/>
          <p:nvPr/>
        </p:nvSpPr>
        <p:spPr>
          <a:xfrm>
            <a:off x="1874880" y="4995720"/>
            <a:ext cx="1771560" cy="457200"/>
          </a:xfrm>
          <a:prstGeom prst="roundRect">
            <a:avLst>
              <a:gd name="adj" fmla="val 40000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eign Nationa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5"/>
          <p:cNvSpPr/>
          <p:nvPr/>
        </p:nvSpPr>
        <p:spPr>
          <a:xfrm>
            <a:off x="5703840" y="4653000"/>
            <a:ext cx="16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_s2071"/>
          <p:cNvSpPr/>
          <p:nvPr/>
        </p:nvSpPr>
        <p:spPr>
          <a:xfrm>
            <a:off x="7475400" y="1338120"/>
            <a:ext cx="1986120" cy="4381560"/>
          </a:xfrm>
          <a:custGeom>
            <a:avLst/>
            <a:gdLst>
              <a:gd name="textAreaLeft" fmla="*/ 96840 w 1986120"/>
              <a:gd name="textAreaRight" fmla="*/ 1889280 w 1986120"/>
              <a:gd name="textAreaTop" fmla="*/ 96840 h 4381560"/>
              <a:gd name="textAreaBottom" fmla="*/ 4284720 h 4381560"/>
            </a:gdLst>
            <a:ahLst/>
            <a:rect l="textAreaLeft" t="textAreaTop" r="textAreaRight" b="textAreaBottom"/>
            <a:pathLst>
              <a:path w="21600" h="47647">
                <a:moveTo>
                  <a:pt x="3600" y="0"/>
                </a:moveTo>
                <a:arcTo wR="3600" hR="3600" stAng="16200000" swAng="-5400000"/>
                <a:lnTo>
                  <a:pt x="0" y="44047"/>
                </a:lnTo>
                <a:arcTo wR="3600" hR="3600" stAng="10800000" swAng="-5400000"/>
                <a:lnTo>
                  <a:pt x="18000" y="47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9"/>
          <p:cNvSpPr/>
          <p:nvPr/>
        </p:nvSpPr>
        <p:spPr>
          <a:xfrm>
            <a:off x="7647120" y="3052800"/>
            <a:ext cx="166032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p Anaconda, Balad,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COM SCR LNO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9"/>
          <p:cNvSpPr/>
          <p:nvPr/>
        </p:nvSpPr>
        <p:spPr>
          <a:xfrm>
            <a:off x="7704000" y="1509840"/>
            <a:ext cx="166068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COM SCR LNO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agram AB, Bagram, A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9"/>
          <p:cNvSpPr/>
          <p:nvPr/>
        </p:nvSpPr>
        <p:spPr>
          <a:xfrm>
            <a:off x="7704000" y="2309760"/>
            <a:ext cx="166068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COM SCR LNO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mp Arifjan, Kuwai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6"/>
          <p:cNvSpPr/>
          <p:nvPr/>
        </p:nvSpPr>
        <p:spPr>
          <a:xfrm>
            <a:off x="7647120" y="4024440"/>
            <a:ext cx="1658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FORGEN LNO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9"/>
          <p:cNvSpPr/>
          <p:nvPr/>
        </p:nvSpPr>
        <p:spPr>
          <a:xfrm>
            <a:off x="7589880" y="3052800"/>
            <a:ext cx="1771560" cy="1600200"/>
          </a:xfrm>
          <a:prstGeom prst="roundRect">
            <a:avLst>
              <a:gd name="adj" fmla="val 8718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1"/>
          <p:cNvSpPr/>
          <p:nvPr/>
        </p:nvSpPr>
        <p:spPr>
          <a:xfrm>
            <a:off x="7589880" y="1428840"/>
            <a:ext cx="1771560" cy="7221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2"/>
          <p:cNvSpPr/>
          <p:nvPr/>
        </p:nvSpPr>
        <p:spPr>
          <a:xfrm>
            <a:off x="7589880" y="2252520"/>
            <a:ext cx="1771560" cy="7225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24"/>
          <p:cNvSpPr/>
          <p:nvPr/>
        </p:nvSpPr>
        <p:spPr>
          <a:xfrm>
            <a:off x="103320" y="3452760"/>
            <a:ext cx="1714320" cy="971640"/>
          </a:xfrm>
          <a:prstGeom prst="roundRect">
            <a:avLst>
              <a:gd name="adj" fmla="val 21894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25"/>
          <p:cNvSpPr/>
          <p:nvPr/>
        </p:nvSpPr>
        <p:spPr>
          <a:xfrm>
            <a:off x="7589880" y="4767120"/>
            <a:ext cx="1771560" cy="6858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01"/>
          <p:cNvSpPr/>
          <p:nvPr/>
        </p:nvSpPr>
        <p:spPr>
          <a:xfrm>
            <a:off x="3875040" y="4309920"/>
            <a:ext cx="1717560" cy="5112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chmotoren EPP III Engine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27"/>
          <p:cNvSpPr/>
          <p:nvPr/>
        </p:nvSpPr>
        <p:spPr>
          <a:xfrm>
            <a:off x="103320" y="4538520"/>
            <a:ext cx="1714320" cy="912960"/>
          </a:xfrm>
          <a:prstGeom prst="roundRect">
            <a:avLst>
              <a:gd name="adj" fmla="val 21894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231"/>
          <p:cNvSpPr/>
          <p:nvPr/>
        </p:nvSpPr>
        <p:spPr>
          <a:xfrm>
            <a:off x="3846600" y="731880"/>
            <a:ext cx="3747960" cy="4670280"/>
          </a:xfrm>
          <a:custGeom>
            <a:avLst/>
            <a:gdLst>
              <a:gd name="textAreaLeft" fmla="*/ 103680 w 3747960"/>
              <a:gd name="textAreaRight" fmla="*/ 3644280 w 3747960"/>
              <a:gd name="textAreaTop" fmla="*/ 103680 h 4670280"/>
              <a:gd name="textAreaBottom" fmla="*/ 4566600 h 4670280"/>
            </a:gdLst>
            <a:ahLst/>
            <a:rect l="textAreaLeft" t="textAreaTop" r="textAreaRight" b="textAreaBottom"/>
            <a:pathLst>
              <a:path w="21600" h="26915">
                <a:moveTo>
                  <a:pt x="2042" y="0"/>
                </a:moveTo>
                <a:arcTo wR="2042" hR="2042" stAng="16200000" swAng="-5400000"/>
                <a:lnTo>
                  <a:pt x="0" y="24873"/>
                </a:lnTo>
                <a:arcTo wR="2042" hR="2042" stAng="10800000" swAng="-5400000"/>
                <a:lnTo>
                  <a:pt x="19558" y="26915"/>
                </a:lnTo>
                <a:arcTo wR="2042" hR="2042" stAng="5400000" swAng="-5400000"/>
                <a:lnTo>
                  <a:pt x="21600" y="2042"/>
                </a:lnTo>
                <a:arcTo wR="2042" hR="2042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oint Base Balad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33"/>
          <p:cNvSpPr/>
          <p:nvPr/>
        </p:nvSpPr>
        <p:spPr>
          <a:xfrm>
            <a:off x="38160" y="735120"/>
            <a:ext cx="3749760" cy="4667040"/>
          </a:xfrm>
          <a:custGeom>
            <a:avLst/>
            <a:gdLst>
              <a:gd name="textAreaLeft" fmla="*/ 106200 w 3749760"/>
              <a:gd name="textAreaRight" fmla="*/ 3643560 w 3749760"/>
              <a:gd name="textAreaTop" fmla="*/ 106200 h 4667040"/>
              <a:gd name="textAreaBottom" fmla="*/ 4560840 h 4667040"/>
            </a:gdLst>
            <a:ahLst/>
            <a:rect l="textAreaLeft" t="textAreaTop" r="textAreaRight" b="textAreaBottom"/>
            <a:pathLst>
              <a:path w="21600" h="26883">
                <a:moveTo>
                  <a:pt x="2089" y="0"/>
                </a:moveTo>
                <a:arcTo wR="2089" hR="2089" stAng="16200000" swAng="-5400000"/>
                <a:lnTo>
                  <a:pt x="0" y="24794"/>
                </a:lnTo>
                <a:arcTo wR="2089" hR="2089" stAng="10800000" swAng="-5400000"/>
                <a:lnTo>
                  <a:pt x="19511" y="26883"/>
                </a:lnTo>
                <a:arcTo wR="2089" hR="2089" stAng="5400000" swAng="-5400000"/>
                <a:lnTo>
                  <a:pt x="21600" y="2089"/>
                </a:lnTo>
                <a:arcTo wR="2089" hR="2089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p Liberty, Baghdad,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87"/>
          <p:cNvSpPr/>
          <p:nvPr/>
        </p:nvSpPr>
        <p:spPr>
          <a:xfrm>
            <a:off x="7677000" y="728640"/>
            <a:ext cx="1920960" cy="2882880"/>
          </a:xfrm>
          <a:custGeom>
            <a:avLst/>
            <a:gdLst>
              <a:gd name="textAreaLeft" fmla="*/ 91440 w 1920960"/>
              <a:gd name="textAreaRight" fmla="*/ 1829520 w 1920960"/>
              <a:gd name="textAreaTop" fmla="*/ 91440 h 2882880"/>
              <a:gd name="textAreaBottom" fmla="*/ 2791440 h 2882880"/>
            </a:gdLst>
            <a:ahLst/>
            <a:rect l="textAreaLeft" t="textAreaTop" r="textAreaRight" b="textAreaBottom"/>
            <a:pathLst>
              <a:path w="21600" h="32414">
                <a:moveTo>
                  <a:pt x="3511" y="0"/>
                </a:moveTo>
                <a:arcTo wR="3511" hR="3511" stAng="16200000" swAng="-5400000"/>
                <a:lnTo>
                  <a:pt x="0" y="28903"/>
                </a:lnTo>
                <a:arcTo wR="3511" hR="3511" stAng="10800000" swAng="-5400000"/>
                <a:lnTo>
                  <a:pt x="18089" y="32414"/>
                </a:lnTo>
                <a:arcTo wR="3511" hR="3511" stAng="5400000" swAng="-5400000"/>
                <a:lnTo>
                  <a:pt x="21600" y="3511"/>
                </a:lnTo>
                <a:arcTo wR="3511" hR="3511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B Speicher, Tikrit,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8"/>
          <p:cNvSpPr/>
          <p:nvPr/>
        </p:nvSpPr>
        <p:spPr>
          <a:xfrm>
            <a:off x="-423720" y="196920"/>
            <a:ext cx="10117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 Support Center (RSC) – Sustainment Operations - OIF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87"/>
          <p:cNvSpPr/>
          <p:nvPr/>
        </p:nvSpPr>
        <p:spPr>
          <a:xfrm>
            <a:off x="7658280" y="3684600"/>
            <a:ext cx="1935000" cy="1717560"/>
          </a:xfrm>
          <a:prstGeom prst="roundRect">
            <a:avLst>
              <a:gd name="adj" fmla="val 19912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llil Airbase, Tallil,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232"/>
          <p:cNvSpPr/>
          <p:nvPr/>
        </p:nvSpPr>
        <p:spPr>
          <a:xfrm>
            <a:off x="868320" y="1589040"/>
            <a:ext cx="3747960" cy="4141800"/>
          </a:xfrm>
          <a:custGeom>
            <a:avLst/>
            <a:gdLst>
              <a:gd name="textAreaLeft" fmla="*/ 110880 w 3747960"/>
              <a:gd name="textAreaRight" fmla="*/ 3637080 w 3747960"/>
              <a:gd name="textAreaTop" fmla="*/ 110880 h 4141800"/>
              <a:gd name="textAreaBottom" fmla="*/ 4030920 h 4141800"/>
            </a:gdLst>
            <a:ahLst/>
            <a:rect l="textAreaLeft" t="textAreaTop" r="textAreaRight" b="textAreaBottom"/>
            <a:pathLst>
              <a:path w="21600" h="23870">
                <a:moveTo>
                  <a:pt x="2186" y="0"/>
                </a:moveTo>
                <a:arcTo wR="2186" hR="2186" stAng="16200000" swAng="-5400000"/>
                <a:lnTo>
                  <a:pt x="0" y="21684"/>
                </a:lnTo>
                <a:arcTo wR="2186" hR="2186" stAng="10800000" swAng="-5400000"/>
                <a:lnTo>
                  <a:pt x="19414" y="23870"/>
                </a:lnTo>
                <a:arcTo wR="2186" hR="2186" stAng="5400000" swAng="-5400000"/>
                <a:lnTo>
                  <a:pt x="21600" y="2186"/>
                </a:lnTo>
                <a:arcTo wR="2186" hR="2186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gram, Afghanist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87"/>
          <p:cNvSpPr/>
          <p:nvPr/>
        </p:nvSpPr>
        <p:spPr>
          <a:xfrm>
            <a:off x="4851360" y="1581120"/>
            <a:ext cx="3749760" cy="4149720"/>
          </a:xfrm>
          <a:custGeom>
            <a:avLst/>
            <a:gdLst>
              <a:gd name="textAreaLeft" fmla="*/ 115920 w 3749760"/>
              <a:gd name="textAreaRight" fmla="*/ 3633840 w 3749760"/>
              <a:gd name="textAreaTop" fmla="*/ 115920 h 4149720"/>
              <a:gd name="textAreaBottom" fmla="*/ 4033800 h 4149720"/>
            </a:gdLst>
            <a:ahLst/>
            <a:rect l="textAreaLeft" t="textAreaTop" r="textAreaRight" b="textAreaBottom"/>
            <a:pathLst>
              <a:path w="21600" h="23904">
                <a:moveTo>
                  <a:pt x="2280" y="0"/>
                </a:moveTo>
                <a:arcTo wR="2280" hR="2280" stAng="16200000" swAng="-5400000"/>
                <a:lnTo>
                  <a:pt x="0" y="21624"/>
                </a:lnTo>
                <a:arcTo wR="2280" hR="2280" stAng="10800000" swAng="-5400000"/>
                <a:lnTo>
                  <a:pt x="19320" y="23904"/>
                </a:lnTo>
                <a:arcTo wR="2280" hR="2280" stAng="5400000" swAng="-5400000"/>
                <a:lnTo>
                  <a:pt x="21600" y="2280"/>
                </a:lnTo>
                <a:arcTo wR="2280" hR="2280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dahar, Afghanist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48"/>
          <p:cNvSpPr/>
          <p:nvPr/>
        </p:nvSpPr>
        <p:spPr>
          <a:xfrm>
            <a:off x="-423720" y="196920"/>
            <a:ext cx="10117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 Support Center (RSC) – Sustainment Operations - OEF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Drawing2"/>
          <p:cNvPicPr/>
          <p:nvPr/>
        </p:nvPicPr>
        <p:blipFill>
          <a:blip r:embed="rId3"/>
          <a:stretch/>
        </p:blipFill>
        <p:spPr>
          <a:xfrm>
            <a:off x="-426960" y="-457200"/>
            <a:ext cx="10120320" cy="804708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"/>
          <p:cNvSpPr/>
          <p:nvPr/>
        </p:nvSpPr>
        <p:spPr>
          <a:xfrm>
            <a:off x="-65160" y="7920"/>
            <a:ext cx="12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ch 25 20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2303640" y="-1584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COM LCMC – South West As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6"/>
          <p:cNvSpPr/>
          <p:nvPr/>
        </p:nvSpPr>
        <p:spPr>
          <a:xfrm>
            <a:off x="9107640" y="0"/>
            <a:ext cx="70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F87B73-C839-46CE-AC33-F7537AB869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Drawing2"/>
          <p:cNvPicPr/>
          <p:nvPr/>
        </p:nvPicPr>
        <p:blipFill>
          <a:blip r:embed="rId4"/>
          <a:stretch/>
        </p:blipFill>
        <p:spPr>
          <a:xfrm>
            <a:off x="-426960" y="-457200"/>
            <a:ext cx="10120320" cy="8047080"/>
          </a:xfrm>
          <a:prstGeom prst="rect">
            <a:avLst/>
          </a:prstGeom>
          <a:ln w="0">
            <a:noFill/>
          </a:ln>
        </p:spPr>
      </p:pic>
      <p:sp>
        <p:nvSpPr>
          <p:cNvPr id="365" name="TextBox 8"/>
          <p:cNvSpPr/>
          <p:nvPr/>
        </p:nvSpPr>
        <p:spPr>
          <a:xfrm>
            <a:off x="2303640" y="-1584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COM LCMC – South West As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9107640" y="0"/>
            <a:ext cx="70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FD7DA3-B825-447C-932C-CC963B51C10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3540"/>
          <p:cNvGrpSpPr/>
          <p:nvPr/>
        </p:nvGrpSpPr>
        <p:grpSpPr>
          <a:xfrm>
            <a:off x="2558880" y="6580080"/>
            <a:ext cx="7105680" cy="960480"/>
            <a:chOff x="2558880" y="6580080"/>
            <a:chExt cx="7105680" cy="960480"/>
          </a:xfrm>
        </p:grpSpPr>
        <p:sp>
          <p:nvSpPr>
            <p:cNvPr id="368" name=""/>
            <p:cNvSpPr/>
            <p:nvPr/>
          </p:nvSpPr>
          <p:spPr>
            <a:xfrm>
              <a:off x="2558880" y="6580080"/>
              <a:ext cx="21481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7000" y="6580080"/>
              <a:ext cx="47448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D-S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81480" y="6580080"/>
              <a:ext cx="18097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 Manager, Deputy - Senior/Lead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91200" y="6580080"/>
              <a:ext cx="50328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-J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94480" y="6580080"/>
              <a:ext cx="217008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Specialist – Journeyma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58880" y="6716880"/>
              <a:ext cx="2148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07000" y="6716880"/>
              <a:ext cx="4744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-S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1480" y="6716880"/>
              <a:ext cx="180972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Specialist - Senior/Lead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91200" y="6716880"/>
              <a:ext cx="5032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-J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94480" y="6716880"/>
              <a:ext cx="2170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am Assistant – Journeyma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07000" y="6854760"/>
              <a:ext cx="4744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T-I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81480" y="6854760"/>
              <a:ext cx="18097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onics Technician – Intermediat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91200" y="6854760"/>
              <a:ext cx="5032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-I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94480" y="6854760"/>
              <a:ext cx="21700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y Clerk - Intermediat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58880" y="6991200"/>
              <a:ext cx="451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LT- SL 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09960" y="6991200"/>
              <a:ext cx="16970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onics Technician – Senior/Lead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07000" y="6991200"/>
              <a:ext cx="4744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T-J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81480" y="6991200"/>
              <a:ext cx="1809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onics Technician – Journeyma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91200" y="6991200"/>
              <a:ext cx="5032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-J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94480" y="6991200"/>
              <a:ext cx="2170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y Clerk - Journeyma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58880" y="7129440"/>
              <a:ext cx="4510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- I 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09960" y="7129440"/>
              <a:ext cx="1697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ogistician – Intermediat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07000" y="7129440"/>
              <a:ext cx="4744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T-I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81480" y="7129440"/>
              <a:ext cx="18097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Technician – Intermediat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91200" y="7129440"/>
              <a:ext cx="5032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S-I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94480" y="7129440"/>
              <a:ext cx="21700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erty Management Specialist – Intermediate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58880" y="7265880"/>
              <a:ext cx="45108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- J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09960" y="7265880"/>
              <a:ext cx="169704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ogistician - Journeyma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07000" y="7265880"/>
              <a:ext cx="47448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T-J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81480" y="7265880"/>
              <a:ext cx="18097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Technician – Journeyma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91200" y="7265880"/>
              <a:ext cx="50328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S-J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94480" y="7265880"/>
              <a:ext cx="217008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erty Management Specialist - Journeyman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58880" y="7402680"/>
              <a:ext cx="451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- S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09960" y="7402680"/>
              <a:ext cx="169704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ogistician – Senior Lead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07000" y="7402680"/>
              <a:ext cx="4744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ST-S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81480" y="7402680"/>
              <a:ext cx="180972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eld Service Technician - Senior/Lead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91200" y="7402680"/>
              <a:ext cx="5032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MS-SL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94480" y="7402680"/>
              <a:ext cx="2170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erty Management Specialist - Senior/Lead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09960" y="6991200"/>
              <a:ext cx="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07000" y="6580080"/>
              <a:ext cx="0" cy="9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81480" y="6580080"/>
              <a:ext cx="0" cy="9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91200" y="6580080"/>
              <a:ext cx="0" cy="9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94480" y="6580080"/>
              <a:ext cx="0" cy="9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07000" y="6716880"/>
              <a:ext cx="495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707000" y="6854760"/>
              <a:ext cx="495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58880" y="6991200"/>
              <a:ext cx="710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58880" y="7129440"/>
              <a:ext cx="710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58880" y="7265880"/>
              <a:ext cx="710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8880" y="7402680"/>
              <a:ext cx="710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58880" y="6991200"/>
              <a:ext cx="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664560" y="6580080"/>
              <a:ext cx="0" cy="9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07000" y="6580080"/>
              <a:ext cx="495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8880" y="7540560"/>
              <a:ext cx="710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Box 11"/>
          <p:cNvSpPr/>
          <p:nvPr/>
        </p:nvSpPr>
        <p:spPr>
          <a:xfrm>
            <a:off x="0" y="0"/>
            <a:ext cx="156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7 APRIL 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_s2071"/>
          <p:cNvSpPr/>
          <p:nvPr/>
        </p:nvSpPr>
        <p:spPr>
          <a:xfrm>
            <a:off x="100080" y="800280"/>
            <a:ext cx="9229680" cy="5508360"/>
          </a:xfrm>
          <a:prstGeom prst="roundRect">
            <a:avLst>
              <a:gd name="adj" fmla="val 6532"/>
            </a:avLst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9"/>
          <p:cNvSpPr/>
          <p:nvPr/>
        </p:nvSpPr>
        <p:spPr>
          <a:xfrm>
            <a:off x="-378000" y="285840"/>
            <a:ext cx="100713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ghanistan National Security Forces (ANSF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9"/>
          <p:cNvSpPr/>
          <p:nvPr/>
        </p:nvSpPr>
        <p:spPr>
          <a:xfrm>
            <a:off x="235080" y="806400"/>
            <a:ext cx="91486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bul, Afghanist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8"/>
          <p:cNvSpPr/>
          <p:nvPr/>
        </p:nvSpPr>
        <p:spPr>
          <a:xfrm>
            <a:off x="720720" y="2077920"/>
            <a:ext cx="2044800" cy="176544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ounded Rectangle 36"/>
          <p:cNvSpPr/>
          <p:nvPr/>
        </p:nvSpPr>
        <p:spPr>
          <a:xfrm>
            <a:off x="617400" y="5567400"/>
            <a:ext cx="2117880" cy="62064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ounded Rectangle 36"/>
          <p:cNvSpPr/>
          <p:nvPr/>
        </p:nvSpPr>
        <p:spPr>
          <a:xfrm>
            <a:off x="617400" y="4762440"/>
            <a:ext cx="2124360" cy="7207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ounded Rectangle 36"/>
          <p:cNvSpPr/>
          <p:nvPr/>
        </p:nvSpPr>
        <p:spPr>
          <a:xfrm>
            <a:off x="6051600" y="1203480"/>
            <a:ext cx="1963800" cy="53964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8"/>
          <p:cNvSpPr/>
          <p:nvPr/>
        </p:nvSpPr>
        <p:spPr>
          <a:xfrm>
            <a:off x="3591000" y="1165320"/>
            <a:ext cx="2205000" cy="5760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8"/>
          <p:cNvSpPr/>
          <p:nvPr/>
        </p:nvSpPr>
        <p:spPr>
          <a:xfrm>
            <a:off x="2911320" y="2077920"/>
            <a:ext cx="6193080" cy="4127760"/>
          </a:xfrm>
          <a:prstGeom prst="roundRect">
            <a:avLst>
              <a:gd name="adj" fmla="val 5176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0" y="6424560"/>
            <a:ext cx="2050920" cy="10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lack font:  Recruiting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Arial"/>
              </a:rPr>
              <a:t>Green font: Deployed On-Sit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Red font: Departing or Vacant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Blue font:  New Hire / In processing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cc00ff"/>
                </a:solidFill>
                <a:latin typeface="Arial"/>
              </a:rPr>
              <a:t>Violet font:  Internal Transf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ounded Rectangle 22"/>
          <p:cNvSpPr/>
          <p:nvPr/>
        </p:nvSpPr>
        <p:spPr>
          <a:xfrm>
            <a:off x="114480" y="6424560"/>
            <a:ext cx="1828800" cy="236520"/>
          </a:xfrm>
          <a:prstGeom prst="roundRect">
            <a:avLst>
              <a:gd name="adj" fmla="val 35653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notes outgoing and incoming personnel                      in one approved slo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Drawing2"/>
          <p:cNvPicPr/>
          <p:nvPr/>
        </p:nvPicPr>
        <p:blipFill>
          <a:blip r:embed="rId3"/>
          <a:stretch/>
        </p:blipFill>
        <p:spPr>
          <a:xfrm>
            <a:off x="-426960" y="-457200"/>
            <a:ext cx="10120320" cy="8047080"/>
          </a:xfrm>
          <a:prstGeom prst="rect">
            <a:avLst/>
          </a:prstGeom>
          <a:ln w="0">
            <a:noFill/>
          </a:ln>
        </p:spPr>
      </p:pic>
      <p:sp>
        <p:nvSpPr>
          <p:cNvPr id="471" name="TextBox 4"/>
          <p:cNvSpPr/>
          <p:nvPr/>
        </p:nvSpPr>
        <p:spPr>
          <a:xfrm>
            <a:off x="2303640" y="-1584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COM LCMC – South West As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9107640" y="0"/>
            <a:ext cx="70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A78C64-B9ED-47D3-A2F8-2F6C005F308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4"/>
          <p:cNvSpPr/>
          <p:nvPr/>
        </p:nvSpPr>
        <p:spPr>
          <a:xfrm>
            <a:off x="3132000" y="995400"/>
            <a:ext cx="3600720" cy="6343560"/>
          </a:xfrm>
          <a:custGeom>
            <a:avLst/>
            <a:gdLst>
              <a:gd name="textAreaLeft" fmla="*/ 102600 w 3600720"/>
              <a:gd name="textAreaRight" fmla="*/ 3498120 w 3600720"/>
              <a:gd name="textAreaTop" fmla="*/ 102600 h 6343560"/>
              <a:gd name="textAreaBottom" fmla="*/ 6240960 h 6343560"/>
            </a:gdLst>
            <a:ahLst/>
            <a:rect l="textAreaLeft" t="textAreaTop" r="textAreaRight" b="textAreaBottom"/>
            <a:pathLst>
              <a:path w="21600" h="38052">
                <a:moveTo>
                  <a:pt x="2106" y="0"/>
                </a:moveTo>
                <a:arcTo wR="2106" hR="2106" stAng="16200000" swAng="-5400000"/>
                <a:lnTo>
                  <a:pt x="0" y="35946"/>
                </a:lnTo>
                <a:arcTo wR="2106" hR="2106" stAng="10800000" swAng="-5400000"/>
                <a:lnTo>
                  <a:pt x="19494" y="38052"/>
                </a:lnTo>
                <a:arcTo wR="2106" hR="2106" stAng="5400000" swAng="-5400000"/>
                <a:lnTo>
                  <a:pt x="21600" y="2106"/>
                </a:lnTo>
                <a:arcTo wR="2106" hR="2106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rri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5"/>
          <p:cNvSpPr/>
          <p:nvPr/>
        </p:nvSpPr>
        <p:spPr>
          <a:xfrm>
            <a:off x="7162920" y="1041480"/>
            <a:ext cx="2050920" cy="439740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4397400"/>
              <a:gd name="textAreaBottom" fmla="*/ 4297320 h 4397400"/>
            </a:gdLst>
            <a:ahLst/>
            <a:rect l="textAreaLeft" t="textAreaTop" r="textAreaRight" b="textAreaBottom"/>
            <a:pathLst>
              <a:path w="21600" h="46308">
                <a:moveTo>
                  <a:pt x="3600" y="0"/>
                </a:moveTo>
                <a:arcTo wR="3600" hR="3600" stAng="16200000" swAng="-5400000"/>
                <a:lnTo>
                  <a:pt x="0" y="42708"/>
                </a:lnTo>
                <a:arcTo wR="3600" hR="3600" stAng="10800000" swAng="-5400000"/>
                <a:lnTo>
                  <a:pt x="18000" y="463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piSc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-431640" y="204840"/>
            <a:ext cx="10125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al Support Center (RSC) – OEM Subcontractor Supp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_s2071"/>
          <p:cNvSpPr/>
          <p:nvPr/>
        </p:nvSpPr>
        <p:spPr>
          <a:xfrm>
            <a:off x="674640" y="1052640"/>
            <a:ext cx="1963800" cy="2974680"/>
          </a:xfrm>
          <a:custGeom>
            <a:avLst/>
            <a:gdLst>
              <a:gd name="textAreaLeft" fmla="*/ 95760 w 1963800"/>
              <a:gd name="textAreaRight" fmla="*/ 1868040 w 1963800"/>
              <a:gd name="textAreaTop" fmla="*/ 95760 h 2974680"/>
              <a:gd name="textAreaBottom" fmla="*/ 2878920 h 2974680"/>
            </a:gdLst>
            <a:ahLst/>
            <a:rect l="textAreaLeft" t="textAreaTop" r="textAreaRight" b="textAreaBottom"/>
            <a:pathLst>
              <a:path w="21600" h="32717">
                <a:moveTo>
                  <a:pt x="3600" y="0"/>
                </a:moveTo>
                <a:arcTo wR="3600" hR="3600" stAng="16200000" swAng="-5400000"/>
                <a:lnTo>
                  <a:pt x="0" y="29117"/>
                </a:lnTo>
                <a:arcTo wR="3600" hR="3600" stAng="10800000" swAng="-5400000"/>
                <a:lnTo>
                  <a:pt x="18000" y="327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al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8"/>
          <p:cNvSpPr/>
          <p:nvPr/>
        </p:nvSpPr>
        <p:spPr>
          <a:xfrm>
            <a:off x="7304040" y="1479600"/>
            <a:ext cx="1771560" cy="117144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oint Base Balad,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32"/>
          <p:cNvSpPr/>
          <p:nvPr/>
        </p:nvSpPr>
        <p:spPr>
          <a:xfrm>
            <a:off x="7304040" y="2766960"/>
            <a:ext cx="1789200" cy="7542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 Asa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7"/>
          <p:cNvSpPr/>
          <p:nvPr/>
        </p:nvSpPr>
        <p:spPr>
          <a:xfrm>
            <a:off x="3270240" y="2954160"/>
            <a:ext cx="1639800" cy="1812960"/>
          </a:xfrm>
          <a:custGeom>
            <a:avLst/>
            <a:gdLst>
              <a:gd name="textAreaLeft" fmla="*/ 51120 w 1639800"/>
              <a:gd name="textAreaRight" fmla="*/ 1588680 w 1639800"/>
              <a:gd name="textAreaTop" fmla="*/ 51120 h 1812960"/>
              <a:gd name="textAreaBottom" fmla="*/ 1761840 h 1812960"/>
            </a:gdLst>
            <a:ahLst/>
            <a:rect l="textAreaLeft" t="textAreaTop" r="textAreaRight" b="textAreaBottom"/>
            <a:pathLst>
              <a:path w="21600" h="23880">
                <a:moveTo>
                  <a:pt x="2303" y="0"/>
                </a:moveTo>
                <a:arcTo wR="2303" hR="2303" stAng="16200000" swAng="-5400000"/>
                <a:lnTo>
                  <a:pt x="0" y="21577"/>
                </a:lnTo>
                <a:arcTo wR="2303" hR="2303" stAng="10800000" swAng="-5400000"/>
                <a:lnTo>
                  <a:pt x="19297" y="23880"/>
                </a:lnTo>
                <a:arcTo wR="2303" hR="2303" stAng="5400000" swAng="-5400000"/>
                <a:lnTo>
                  <a:pt x="21600" y="2303"/>
                </a:lnTo>
                <a:arcTo wR="2303" hR="2303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p Anaconda, Balad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9"/>
          <p:cNvSpPr/>
          <p:nvPr/>
        </p:nvSpPr>
        <p:spPr>
          <a:xfrm>
            <a:off x="4997520" y="1803240"/>
            <a:ext cx="1595520" cy="2963880"/>
          </a:xfrm>
          <a:custGeom>
            <a:avLst/>
            <a:gdLst>
              <a:gd name="textAreaLeft" fmla="*/ 55440 w 1595520"/>
              <a:gd name="textAreaRight" fmla="*/ 1540080 w 1595520"/>
              <a:gd name="textAreaTop" fmla="*/ 55440 h 2963880"/>
              <a:gd name="textAreaBottom" fmla="*/ 2908440 h 2963880"/>
            </a:gdLst>
            <a:ahLst/>
            <a:rect l="textAreaLeft" t="textAreaTop" r="textAreaRight" b="textAreaBottom"/>
            <a:pathLst>
              <a:path w="21600" h="40121">
                <a:moveTo>
                  <a:pt x="2578" y="0"/>
                </a:moveTo>
                <a:arcTo wR="2578" hR="2578" stAng="16200000" swAng="-5400000"/>
                <a:lnTo>
                  <a:pt x="0" y="37543"/>
                </a:lnTo>
                <a:arcTo wR="2578" hR="2578" stAng="10800000" swAng="-5400000"/>
                <a:lnTo>
                  <a:pt x="19022" y="40121"/>
                </a:lnTo>
                <a:arcTo wR="2578" hR="2578" stAng="5400000" swAng="-5400000"/>
                <a:lnTo>
                  <a:pt x="21600" y="2578"/>
                </a:lnTo>
                <a:arcTo wR="2578" hR="2578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p Liberty, Baghdad,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49"/>
          <p:cNvSpPr/>
          <p:nvPr/>
        </p:nvSpPr>
        <p:spPr>
          <a:xfrm>
            <a:off x="3270240" y="1803240"/>
            <a:ext cx="1638360" cy="1036800"/>
          </a:xfrm>
          <a:prstGeom prst="roundRect">
            <a:avLst>
              <a:gd name="adj" fmla="val 12944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p Arifjan, Kuwai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9"/>
          <p:cNvSpPr/>
          <p:nvPr/>
        </p:nvSpPr>
        <p:spPr>
          <a:xfrm>
            <a:off x="846000" y="1338120"/>
            <a:ext cx="1603440" cy="1505160"/>
          </a:xfrm>
          <a:prstGeom prst="roundRect">
            <a:avLst>
              <a:gd name="adj" fmla="val 10856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ater Support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mp Arifjan, Kuwai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2"/>
          <p:cNvSpPr/>
          <p:nvPr/>
        </p:nvSpPr>
        <p:spPr>
          <a:xfrm>
            <a:off x="846000" y="2995560"/>
            <a:ext cx="1600200" cy="736560"/>
          </a:xfrm>
          <a:prstGeom prst="roundRect">
            <a:avLst>
              <a:gd name="adj" fmla="val 18222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gram, Afghanist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22"/>
          <p:cNvSpPr/>
          <p:nvPr/>
        </p:nvSpPr>
        <p:spPr>
          <a:xfrm>
            <a:off x="3270240" y="4881600"/>
            <a:ext cx="3322800" cy="2343240"/>
          </a:xfrm>
          <a:prstGeom prst="roundRect">
            <a:avLst>
              <a:gd name="adj" fmla="val 17111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fghanist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7"/>
          <p:cNvSpPr/>
          <p:nvPr/>
        </p:nvSpPr>
        <p:spPr>
          <a:xfrm>
            <a:off x="7304040" y="3624120"/>
            <a:ext cx="1789200" cy="941400"/>
          </a:xfrm>
          <a:prstGeom prst="roundRect">
            <a:avLst>
              <a:gd name="adj" fmla="val 11769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p Liberty, Baghdad,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9"/>
          <p:cNvSpPr/>
          <p:nvPr/>
        </p:nvSpPr>
        <p:spPr>
          <a:xfrm>
            <a:off x="0" y="0"/>
            <a:ext cx="14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7 APRIL 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0"/>
          <p:cNvSpPr/>
          <p:nvPr/>
        </p:nvSpPr>
        <p:spPr>
          <a:xfrm>
            <a:off x="3303720" y="5110200"/>
            <a:ext cx="32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dahar                                                       Bagra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1"/>
          <p:cNvSpPr/>
          <p:nvPr/>
        </p:nvSpPr>
        <p:spPr>
          <a:xfrm>
            <a:off x="5361120" y="6539040"/>
            <a:ext cx="51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bu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ounded Rectangle 22"/>
          <p:cNvSpPr/>
          <p:nvPr/>
        </p:nvSpPr>
        <p:spPr>
          <a:xfrm>
            <a:off x="3760920" y="1281240"/>
            <a:ext cx="2228760" cy="425160"/>
          </a:xfrm>
          <a:prstGeom prst="roundRect">
            <a:avLst>
              <a:gd name="adj" fmla="val 26009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3"/>
          <p:cNvSpPr/>
          <p:nvPr/>
        </p:nvSpPr>
        <p:spPr>
          <a:xfrm>
            <a:off x="3965400" y="1292400"/>
            <a:ext cx="194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ater Support, Arifjan, Kuwai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22"/>
          <p:cNvSpPr/>
          <p:nvPr/>
        </p:nvSpPr>
        <p:spPr>
          <a:xfrm>
            <a:off x="7329600" y="4635360"/>
            <a:ext cx="1788840" cy="693720"/>
          </a:xfrm>
          <a:prstGeom prst="roundRect">
            <a:avLst>
              <a:gd name="adj" fmla="val 9606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gram, Afghanist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5"/>
          <p:cNvSpPr/>
          <p:nvPr/>
        </p:nvSpPr>
        <p:spPr>
          <a:xfrm>
            <a:off x="5361120" y="4024440"/>
            <a:ext cx="81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sra, Iraq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103320" y="6424560"/>
            <a:ext cx="2050920" cy="10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lack font:  Recruiting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Arial"/>
              </a:rPr>
              <a:t>Green font: Deployed On-Sit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Red font: Departing or Vacant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333399"/>
                </a:solidFill>
                <a:latin typeface="Arial"/>
              </a:rPr>
              <a:t>Blue font:  New Hire / In processing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700" spc="-1" strike="noStrike">
                <a:solidFill>
                  <a:srgbClr val="cc00ff"/>
                </a:solidFill>
                <a:latin typeface="Arial"/>
              </a:rPr>
              <a:t>Violet font:  Internal Transf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ounded Rectangle 27"/>
          <p:cNvSpPr/>
          <p:nvPr/>
        </p:nvSpPr>
        <p:spPr>
          <a:xfrm>
            <a:off x="217440" y="6424560"/>
            <a:ext cx="1828800" cy="236520"/>
          </a:xfrm>
          <a:prstGeom prst="roundRect">
            <a:avLst>
              <a:gd name="adj" fmla="val 35653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notes outgoing and incoming personnel                      in one approved slo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Drawing2"/>
          <p:cNvPicPr/>
          <p:nvPr/>
        </p:nvPicPr>
        <p:blipFill>
          <a:blip r:embed="rId2"/>
          <a:stretch/>
        </p:blipFill>
        <p:spPr>
          <a:xfrm>
            <a:off x="0" y="0"/>
            <a:ext cx="9693360" cy="75898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7" descr="Drawing2"/>
          <p:cNvPicPr/>
          <p:nvPr/>
        </p:nvPicPr>
        <p:blipFill>
          <a:blip r:embed="rId3"/>
          <a:stretch/>
        </p:blipFill>
        <p:spPr>
          <a:xfrm>
            <a:off x="-426960" y="-295200"/>
            <a:ext cx="10120320" cy="8047080"/>
          </a:xfrm>
          <a:prstGeom prst="rect">
            <a:avLst/>
          </a:prstGeom>
          <a:ln w="0">
            <a:noFill/>
          </a:ln>
        </p:spPr>
      </p:pic>
      <p:sp>
        <p:nvSpPr>
          <p:cNvPr id="533" name="TextBox 4"/>
          <p:cNvSpPr/>
          <p:nvPr/>
        </p:nvSpPr>
        <p:spPr>
          <a:xfrm>
            <a:off x="-411120" y="-15840"/>
            <a:ext cx="1010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COM LCMC – South West As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9107640" y="0"/>
            <a:ext cx="70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923EA1-16FB-4383-86BD-95C210A9928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-431640" y="209520"/>
            <a:ext cx="1012500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C and Address Informatio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54"/>
          <p:cNvSpPr/>
          <p:nvPr/>
        </p:nvSpPr>
        <p:spPr>
          <a:xfrm flipH="1" flipV="1">
            <a:off x="460440" y="2390400"/>
            <a:ext cx="1440" cy="149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traight Connector 55"/>
          <p:cNvSpPr/>
          <p:nvPr/>
        </p:nvSpPr>
        <p:spPr>
          <a:xfrm flipV="1">
            <a:off x="2016000" y="2389320"/>
            <a:ext cx="0" cy="126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traight Connector 58"/>
          <p:cNvSpPr/>
          <p:nvPr/>
        </p:nvSpPr>
        <p:spPr>
          <a:xfrm flipV="1">
            <a:off x="3349800" y="2385720"/>
            <a:ext cx="1440" cy="158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60"/>
          <p:cNvSpPr/>
          <p:nvPr/>
        </p:nvSpPr>
        <p:spPr>
          <a:xfrm flipH="1" flipV="1">
            <a:off x="6243120" y="2382840"/>
            <a:ext cx="3240" cy="169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61"/>
          <p:cNvSpPr/>
          <p:nvPr/>
        </p:nvSpPr>
        <p:spPr>
          <a:xfrm flipH="1" flipV="1">
            <a:off x="7558200" y="2379240"/>
            <a:ext cx="1440" cy="158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_s2072"/>
          <p:cNvSpPr/>
          <p:nvPr/>
        </p:nvSpPr>
        <p:spPr>
          <a:xfrm>
            <a:off x="4192560" y="2529000"/>
            <a:ext cx="1347840" cy="4636800"/>
          </a:xfrm>
          <a:custGeom>
            <a:avLst/>
            <a:gdLst>
              <a:gd name="textAreaLeft" fmla="*/ 65520 w 1347840"/>
              <a:gd name="textAreaRight" fmla="*/ 1282320 w 1347840"/>
              <a:gd name="textAreaTop" fmla="*/ 65520 h 4636800"/>
              <a:gd name="textAreaBottom" fmla="*/ 4571280 h 4636800"/>
            </a:gdLst>
            <a:ahLst/>
            <a:rect l="textAreaLeft" t="textAreaTop" r="textAreaRight" b="textAreaBottom"/>
            <a:pathLst>
              <a:path w="21600" h="74294">
                <a:moveTo>
                  <a:pt x="3600" y="0"/>
                </a:moveTo>
                <a:arcTo wR="3600" hR="3600" stAng="16200000" swAng="-5400000"/>
                <a:lnTo>
                  <a:pt x="0" y="70694"/>
                </a:lnTo>
                <a:arcTo wR="3600" hR="3600" stAng="10800000" swAng="-5400000"/>
                <a:lnTo>
                  <a:pt x="18000" y="74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_s2073"/>
          <p:cNvSpPr/>
          <p:nvPr/>
        </p:nvSpPr>
        <p:spPr>
          <a:xfrm>
            <a:off x="5576760" y="2552760"/>
            <a:ext cx="1338480" cy="4614840"/>
          </a:xfrm>
          <a:custGeom>
            <a:avLst/>
            <a:gdLst>
              <a:gd name="textAreaLeft" fmla="*/ 65160 w 1338480"/>
              <a:gd name="textAreaRight" fmla="*/ 1273320 w 1338480"/>
              <a:gd name="textAreaTop" fmla="*/ 65160 h 4614840"/>
              <a:gd name="textAreaBottom" fmla="*/ 4549680 h 4614840"/>
            </a:gdLst>
            <a:ahLst/>
            <a:rect l="textAreaLeft" t="textAreaTop" r="textAreaRight" b="textAreaBottom"/>
            <a:pathLst>
              <a:path w="21600" h="74459">
                <a:moveTo>
                  <a:pt x="3600" y="0"/>
                </a:moveTo>
                <a:arcTo wR="3600" hR="3600" stAng="16200000" swAng="-5400000"/>
                <a:lnTo>
                  <a:pt x="0" y="70859"/>
                </a:lnTo>
                <a:arcTo wR="3600" hR="3600" stAng="10800000" swAng="-5400000"/>
                <a:lnTo>
                  <a:pt x="18000" y="744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_s2079"/>
          <p:cNvSpPr/>
          <p:nvPr/>
        </p:nvSpPr>
        <p:spPr>
          <a:xfrm>
            <a:off x="6946920" y="2527200"/>
            <a:ext cx="1305000" cy="4638600"/>
          </a:xfrm>
          <a:custGeom>
            <a:avLst/>
            <a:gdLst>
              <a:gd name="textAreaLeft" fmla="*/ 63720 w 1305000"/>
              <a:gd name="textAreaRight" fmla="*/ 1241280 w 1305000"/>
              <a:gd name="textAreaTop" fmla="*/ 63720 h 4638600"/>
              <a:gd name="textAreaBottom" fmla="*/ 4574880 h 4638600"/>
            </a:gdLst>
            <a:ahLst/>
            <a:rect l="textAreaLeft" t="textAreaTop" r="textAreaRight" b="textAreaBottom"/>
            <a:pathLst>
              <a:path w="21600" h="76762">
                <a:moveTo>
                  <a:pt x="3600" y="0"/>
                </a:moveTo>
                <a:arcTo wR="3600" hR="3600" stAng="16200000" swAng="-5400000"/>
                <a:lnTo>
                  <a:pt x="0" y="73162"/>
                </a:lnTo>
                <a:arcTo wR="3600" hR="3600" stAng="10800000" swAng="-5400000"/>
                <a:lnTo>
                  <a:pt x="18000" y="76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" rIns="540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_s2072"/>
          <p:cNvSpPr/>
          <p:nvPr/>
        </p:nvSpPr>
        <p:spPr>
          <a:xfrm>
            <a:off x="1341360" y="2516040"/>
            <a:ext cx="1351080" cy="4649760"/>
          </a:xfrm>
          <a:custGeom>
            <a:avLst/>
            <a:gdLst>
              <a:gd name="textAreaLeft" fmla="*/ 65880 w 1351080"/>
              <a:gd name="textAreaRight" fmla="*/ 1285200 w 1351080"/>
              <a:gd name="textAreaTop" fmla="*/ 65880 h 4649760"/>
              <a:gd name="textAreaBottom" fmla="*/ 4583880 h 4649760"/>
            </a:gdLst>
            <a:ahLst/>
            <a:rect l="textAreaLeft" t="textAreaTop" r="textAreaRight" b="textAreaBottom"/>
            <a:pathLst>
              <a:path w="21600" h="74323">
                <a:moveTo>
                  <a:pt x="3600" y="0"/>
                </a:moveTo>
                <a:arcTo wR="3600" hR="3600" stAng="16200000" swAng="-5400000"/>
                <a:lnTo>
                  <a:pt x="0" y="70723"/>
                </a:lnTo>
                <a:arcTo wR="3600" hR="3600" stAng="10800000" swAng="-5400000"/>
                <a:lnTo>
                  <a:pt x="18000" y="74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_s2070"/>
          <p:cNvSpPr/>
          <p:nvPr/>
        </p:nvSpPr>
        <p:spPr>
          <a:xfrm>
            <a:off x="3017880" y="538200"/>
            <a:ext cx="3371760" cy="120024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_s2072"/>
          <p:cNvSpPr/>
          <p:nvPr/>
        </p:nvSpPr>
        <p:spPr>
          <a:xfrm>
            <a:off x="4046400" y="1844640"/>
            <a:ext cx="1314720" cy="33336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ctr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_s2072"/>
          <p:cNvSpPr/>
          <p:nvPr/>
        </p:nvSpPr>
        <p:spPr>
          <a:xfrm>
            <a:off x="2728800" y="2516040"/>
            <a:ext cx="1416240" cy="4651560"/>
          </a:xfrm>
          <a:custGeom>
            <a:avLst/>
            <a:gdLst>
              <a:gd name="textAreaLeft" fmla="*/ 69120 w 1416240"/>
              <a:gd name="textAreaRight" fmla="*/ 1347120 w 1416240"/>
              <a:gd name="textAreaTop" fmla="*/ 69120 h 4651560"/>
              <a:gd name="textAreaBottom" fmla="*/ 4582440 h 4651560"/>
            </a:gdLst>
            <a:ahLst/>
            <a:rect l="textAreaLeft" t="textAreaTop" r="textAreaRight" b="textAreaBottom"/>
            <a:pathLst>
              <a:path w="21600" h="70931">
                <a:moveTo>
                  <a:pt x="3600" y="0"/>
                </a:moveTo>
                <a:arcTo wR="3600" hR="3600" stAng="16200000" swAng="-5400000"/>
                <a:lnTo>
                  <a:pt x="0" y="67331"/>
                </a:lnTo>
                <a:arcTo wR="3600" hR="3600" stAng="10800000" swAng="-5400000"/>
                <a:lnTo>
                  <a:pt x="18000" y="709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4680" tIns="2520" bIns="252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_s2079"/>
          <p:cNvSpPr/>
          <p:nvPr/>
        </p:nvSpPr>
        <p:spPr>
          <a:xfrm>
            <a:off x="8300880" y="2530440"/>
            <a:ext cx="1292400" cy="4637160"/>
          </a:xfrm>
          <a:custGeom>
            <a:avLst/>
            <a:gdLst>
              <a:gd name="textAreaLeft" fmla="*/ 63000 w 1292400"/>
              <a:gd name="textAreaRight" fmla="*/ 1229400 w 1292400"/>
              <a:gd name="textAreaTop" fmla="*/ 63000 h 4637160"/>
              <a:gd name="textAreaBottom" fmla="*/ 4574160 h 4637160"/>
            </a:gdLst>
            <a:ahLst/>
            <a:rect l="textAreaLeft" t="textAreaTop" r="textAreaRight" b="textAreaBottom"/>
            <a:pathLst>
              <a:path w="21600" h="77486">
                <a:moveTo>
                  <a:pt x="3600" y="0"/>
                </a:moveTo>
                <a:arcTo wR="3600" hR="3600" stAng="16200000" swAng="-5400000"/>
                <a:lnTo>
                  <a:pt x="0" y="73886"/>
                </a:lnTo>
                <a:arcTo wR="3600" hR="3600" stAng="10800000" swAng="-5400000"/>
                <a:lnTo>
                  <a:pt x="18000" y="774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" rIns="5400" tIns="2520" bIns="2520" anchor="t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_s2072"/>
          <p:cNvSpPr/>
          <p:nvPr/>
        </p:nvSpPr>
        <p:spPr>
          <a:xfrm>
            <a:off x="0" y="2516040"/>
            <a:ext cx="1320840" cy="4649760"/>
          </a:xfrm>
          <a:custGeom>
            <a:avLst/>
            <a:gdLst>
              <a:gd name="textAreaLeft" fmla="*/ 64440 w 1320840"/>
              <a:gd name="textAreaRight" fmla="*/ 1256400 w 1320840"/>
              <a:gd name="textAreaTop" fmla="*/ 64440 h 4649760"/>
              <a:gd name="textAreaBottom" fmla="*/ 4585320 h 4649760"/>
            </a:gdLst>
            <a:ahLst/>
            <a:rect l="textAreaLeft" t="textAreaTop" r="textAreaRight" b="textAreaBottom"/>
            <a:pathLst>
              <a:path w="21600" h="76024">
                <a:moveTo>
                  <a:pt x="3600" y="0"/>
                </a:moveTo>
                <a:arcTo wR="3600" hR="3600" stAng="16200000" swAng="-5400000"/>
                <a:lnTo>
                  <a:pt x="0" y="72424"/>
                </a:lnTo>
                <a:arcTo wR="3600" hR="3600" stAng="10800000" swAng="-5400000"/>
                <a:lnTo>
                  <a:pt x="18000" y="760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4680" tIns="2520" bIns="252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59"/>
          <p:cNvSpPr/>
          <p:nvPr/>
        </p:nvSpPr>
        <p:spPr>
          <a:xfrm flipH="1" flipV="1">
            <a:off x="4865760" y="2384280"/>
            <a:ext cx="1440" cy="144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62"/>
          <p:cNvSpPr/>
          <p:nvPr/>
        </p:nvSpPr>
        <p:spPr>
          <a:xfrm flipV="1">
            <a:off x="8904240" y="2381400"/>
            <a:ext cx="0" cy="149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71"/>
          <p:cNvSpPr/>
          <p:nvPr/>
        </p:nvSpPr>
        <p:spPr>
          <a:xfrm flipV="1">
            <a:off x="461880" y="2377800"/>
            <a:ext cx="8440920" cy="11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78"/>
          <p:cNvSpPr/>
          <p:nvPr/>
        </p:nvSpPr>
        <p:spPr>
          <a:xfrm flipH="1">
            <a:off x="4695840" y="2178000"/>
            <a:ext cx="1440" cy="203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5"/>
          <p:cNvSpPr/>
          <p:nvPr/>
        </p:nvSpPr>
        <p:spPr>
          <a:xfrm>
            <a:off x="0" y="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7 APRIL 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26"/>
          <p:cNvSpPr/>
          <p:nvPr/>
        </p:nvSpPr>
        <p:spPr>
          <a:xfrm>
            <a:off x="4703760" y="1738440"/>
            <a:ext cx="0" cy="10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84560" y="302760"/>
            <a:ext cx="87249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84560" y="1775520"/>
            <a:ext cx="872496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383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5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397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397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397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Nelson.Duncan@us.army.mil" TargetMode="External"/><Relationship Id="rId2" Type="http://schemas.openxmlformats.org/officeDocument/2006/relationships/hyperlink" Target="mailto:CECOMLCMCESSC@kuwait.swa.army.mil" TargetMode="External"/><Relationship Id="rId3" Type="http://schemas.openxmlformats.org/officeDocument/2006/relationships/hyperlink" Target="mailto:David.Estes@ManTech.com" TargetMode="External"/><Relationship Id="rId4" Type="http://schemas.openxmlformats.org/officeDocument/2006/relationships/hyperlink" Target="mailto:la.Steele@mmcs.army.mil" TargetMode="External"/><Relationship Id="rId5" Type="http://schemas.openxmlformats.org/officeDocument/2006/relationships/hyperlink" Target="mailto:la.Steele@mmcs.army.mil" TargetMode="External"/><Relationship Id="rId6" Type="http://schemas.openxmlformats.org/officeDocument/2006/relationships/hyperlink" Target="mailto:Paul.J.Gregory@" TargetMode="External"/><Relationship Id="rId7" Type="http://schemas.openxmlformats.org/officeDocument/2006/relationships/hyperlink" Target="mailto:CECOMLCMCESSC@kuwait.swa.army.mil" TargetMode="External"/><Relationship Id="rId8" Type="http://schemas.openxmlformats.org/officeDocument/2006/relationships/hyperlink" Target="mailto:CECOMLCMCESSC@kuwait.swa.army.mil" TargetMode="External"/><Relationship Id="rId9" Type="http://schemas.openxmlformats.org/officeDocument/2006/relationships/hyperlink" Target="mailto:Randy.caswell@us.army.mil" TargetMode="External"/><Relationship Id="rId10" Type="http://schemas.openxmlformats.org/officeDocument/2006/relationships/hyperlink" Target="mailto:illa.steele@mmcs.army.mil" TargetMode="External"/><Relationship Id="rId11" Type="http://schemas.openxmlformats.org/officeDocument/2006/relationships/hyperlink" Target="mailto:casimir.stryjewski@us.army.mil" TargetMode="External"/><Relationship Id="rId12" Type="http://schemas.openxmlformats.org/officeDocument/2006/relationships/hyperlink" Target="mailto:richard.n.bradshaw@mmcs.army.mil" TargetMode="External"/><Relationship Id="rId13" Type="http://schemas.openxmlformats.org/officeDocument/2006/relationships/hyperlink" Target="mailto:ickey@mmcs.army.mil" TargetMode="External"/><Relationship Id="rId14" Type="http://schemas.openxmlformats.org/officeDocument/2006/relationships/hyperlink" Target="mailto:Gene.Rains@us.army.mil" TargetMode="External"/><Relationship Id="rId15" Type="http://schemas.openxmlformats.org/officeDocument/2006/relationships/hyperlink" Target="mailto:richard.n.bradshaw@mmcs.army.mil" TargetMode="External"/><Relationship Id="rId16" Type="http://schemas.openxmlformats.org/officeDocument/2006/relationships/hyperlink" Target="mailto:CECOM-ESSC@MMCS.army.mil" TargetMode="External"/><Relationship Id="rId17" Type="http://schemas.openxmlformats.org/officeDocument/2006/relationships/slideLayout" Target="../slideLayouts/slideLayout97.xml"/><Relationship Id="rId18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1152360" y="949320"/>
            <a:ext cx="7388280" cy="34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C – Falls Church V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5099040" y="2646360"/>
            <a:ext cx="4017960" cy="35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alls Church, V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5121360" y="3154320"/>
          <a:ext cx="4092480" cy="857160"/>
        </p:xfrm>
        <a:graphic>
          <a:graphicData uri="http://schemas.openxmlformats.org/drawingml/2006/table">
            <a:tbl>
              <a:tblPr/>
              <a:tblGrid>
                <a:gridCol w="193680"/>
                <a:gridCol w="679320"/>
                <a:gridCol w="628560"/>
                <a:gridCol w="419400"/>
                <a:gridCol w="2171520"/>
              </a:tblGrid>
              <a:tr h="12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ed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el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BAI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igh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n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SS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i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l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MS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BA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uy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BA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uy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an-Tra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BAI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z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u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BA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4" name="Text Box 51"/>
          <p:cNvSpPr/>
          <p:nvPr/>
        </p:nvSpPr>
        <p:spPr>
          <a:xfrm>
            <a:off x="511200" y="2631960"/>
            <a:ext cx="367812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atontown/Ft. Monmouth NJ (FSS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09600" y="3171960"/>
          <a:ext cx="4470480" cy="376200"/>
        </p:xfrm>
        <a:graphic>
          <a:graphicData uri="http://schemas.openxmlformats.org/drawingml/2006/table">
            <a:tbl>
              <a:tblPr/>
              <a:tblGrid>
                <a:gridCol w="133200"/>
                <a:gridCol w="500040"/>
                <a:gridCol w="781200"/>
                <a:gridCol w="484200"/>
                <a:gridCol w="2571840"/>
              </a:tblGrid>
              <a:tr h="122040"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lucc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Senior Lead – ENLOGEX (FSS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i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Senior Lead – ENLOGEX (FSS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GJO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Journeyman – ENLOGEX (FSS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6" name="Text Box 80"/>
          <p:cNvSpPr/>
          <p:nvPr/>
        </p:nvSpPr>
        <p:spPr>
          <a:xfrm>
            <a:off x="2517480" y="19044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4/02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81"/>
          <p:cNvSpPr/>
          <p:nvPr/>
        </p:nvSpPr>
        <p:spPr>
          <a:xfrm>
            <a:off x="4778280" y="4518000"/>
            <a:ext cx="369432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coming Personn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82"/>
          <p:cNvSpPr/>
          <p:nvPr/>
        </p:nvSpPr>
        <p:spPr>
          <a:xfrm>
            <a:off x="3386160" y="1530360"/>
            <a:ext cx="303372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Michael Barcla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HDCE) Program Manager – Executive Scientist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82"/>
          <p:cNvSpPr/>
          <p:nvPr/>
        </p:nvSpPr>
        <p:spPr>
          <a:xfrm>
            <a:off x="3349800" y="2114640"/>
            <a:ext cx="313992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Matthew Ferguso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HDCE) Program Manager – Executive Scientist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4335480" y="4927680"/>
          <a:ext cx="4856040" cy="374400"/>
        </p:xfrm>
        <a:graphic>
          <a:graphicData uri="http://schemas.openxmlformats.org/drawingml/2006/table">
            <a:tbl>
              <a:tblPr/>
              <a:tblGrid>
                <a:gridCol w="144360"/>
                <a:gridCol w="542880"/>
                <a:gridCol w="849600"/>
                <a:gridCol w="525240"/>
                <a:gridCol w="2793960"/>
              </a:tblGrid>
              <a:tr h="122040"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ylo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alo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LGIM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gistician – Intermediate  (Ft Hood- 04/05/10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atel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u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LGIM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gistician –Senior Lead (Ft Hood- 04/26/10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2"/>
          <p:cNvSpPr/>
          <p:nvPr/>
        </p:nvSpPr>
        <p:spPr>
          <a:xfrm>
            <a:off x="2004840" y="909720"/>
            <a:ext cx="5975640" cy="45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Hood, T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T Oper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230040" y="2921040"/>
          <a:ext cx="4626000" cy="2147760"/>
        </p:xfrm>
        <a:graphic>
          <a:graphicData uri="http://schemas.openxmlformats.org/drawingml/2006/table">
            <a:tbl>
              <a:tblPr/>
              <a:tblGrid>
                <a:gridCol w="182880"/>
                <a:gridCol w="699840"/>
                <a:gridCol w="536760"/>
                <a:gridCol w="404640"/>
                <a:gridCol w="2801880"/>
              </a:tblGrid>
              <a:tr h="1522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gad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o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cken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toph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m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h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MS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Manager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ck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ro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Senior Lead (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      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ptun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k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dcliff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gel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ot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5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l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i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dge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GIM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as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t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la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qu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s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GJO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- Journeym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3" name="Text Box 100"/>
          <p:cNvSpPr/>
          <p:nvPr/>
        </p:nvSpPr>
        <p:spPr>
          <a:xfrm>
            <a:off x="2517480" y="19044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04/02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01"/>
          <p:cNvSpPr/>
          <p:nvPr/>
        </p:nvSpPr>
        <p:spPr>
          <a:xfrm>
            <a:off x="1349280" y="2579760"/>
            <a:ext cx="253224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SET LOGISTICS/ Production Contro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02"/>
          <p:cNvSpPr/>
          <p:nvPr/>
        </p:nvSpPr>
        <p:spPr>
          <a:xfrm>
            <a:off x="3554280" y="2089080"/>
            <a:ext cx="3186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ISTICS /Production Contr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3"/>
          <p:cNvSpPr/>
          <p:nvPr/>
        </p:nvSpPr>
        <p:spPr>
          <a:xfrm>
            <a:off x="5165640" y="2687760"/>
            <a:ext cx="367992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C Hood – FSSD GTL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5324400" y="3097080"/>
          <a:ext cx="3935520" cy="844560"/>
        </p:xfrm>
        <a:graphic>
          <a:graphicData uri="http://schemas.openxmlformats.org/drawingml/2006/table">
            <a:tbl>
              <a:tblPr/>
              <a:tblGrid>
                <a:gridCol w="154080"/>
                <a:gridCol w="471600"/>
                <a:gridCol w="425160"/>
                <a:gridCol w="443160"/>
                <a:gridCol w="2441520"/>
              </a:tblGrid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pbe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stician/Senior Lead 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n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gin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– Intermediate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tk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git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–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ri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P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Senior Lead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n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– Intermediate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gist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8" name="Text Box 147"/>
          <p:cNvSpPr/>
          <p:nvPr/>
        </p:nvSpPr>
        <p:spPr>
          <a:xfrm>
            <a:off x="3567240" y="1565280"/>
            <a:ext cx="3046320" cy="33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harles Vidak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DY )Management Specialist – Senior Lead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48"/>
          <p:cNvSpPr/>
          <p:nvPr/>
        </p:nvSpPr>
        <p:spPr>
          <a:xfrm>
            <a:off x="5086440" y="4479840"/>
            <a:ext cx="3736800" cy="419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Bliss, T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4ISR RSC SUPPORT (Detachment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4884840" y="5283360"/>
          <a:ext cx="4494240" cy="904680"/>
        </p:xfrm>
        <a:graphic>
          <a:graphicData uri="http://schemas.openxmlformats.org/drawingml/2006/table">
            <a:tbl>
              <a:tblPr/>
              <a:tblGrid>
                <a:gridCol w="231840"/>
                <a:gridCol w="587160"/>
                <a:gridCol w="596880"/>
                <a:gridCol w="443160"/>
                <a:gridCol w="2635200"/>
              </a:tblGrid>
              <a:tr h="1519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oks Jr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h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 (LEA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5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g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j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o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Senior Lead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ti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shel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y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wronk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or Technician  </a:t>
                      </a:r>
                      <a:r>
                        <a:rPr b="1" lang="en-US" sz="8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(INP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58"/>
          <p:cNvSpPr/>
          <p:nvPr/>
        </p:nvSpPr>
        <p:spPr>
          <a:xfrm>
            <a:off x="2538360" y="19044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dated: 5/19/20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69"/>
          <p:cNvSpPr/>
          <p:nvPr/>
        </p:nvSpPr>
        <p:spPr>
          <a:xfrm>
            <a:off x="4875120" y="20685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4567320" y="5049720"/>
          <a:ext cx="4732200" cy="1370160"/>
        </p:xfrm>
        <a:graphic>
          <a:graphicData uri="http://schemas.openxmlformats.org/drawingml/2006/table">
            <a:tbl>
              <a:tblPr/>
              <a:tblGrid>
                <a:gridCol w="279360"/>
                <a:gridCol w="825480"/>
                <a:gridCol w="744480"/>
                <a:gridCol w="496800"/>
                <a:gridCol w="2386080"/>
              </a:tblGrid>
              <a:tr h="21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hir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            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a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-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st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gl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lea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gl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Journeym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ill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n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rd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187200" y="4307040"/>
          <a:ext cx="4149720" cy="1631880"/>
        </p:xfrm>
        <a:graphic>
          <a:graphicData uri="http://schemas.openxmlformats.org/drawingml/2006/table">
            <a:tbl>
              <a:tblPr/>
              <a:tblGrid>
                <a:gridCol w="252360"/>
                <a:gridCol w="811440"/>
                <a:gridCol w="449280"/>
                <a:gridCol w="409680"/>
                <a:gridCol w="2226960"/>
              </a:tblGrid>
              <a:tr h="20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lo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NY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 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n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b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tric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cha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SC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nand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Senior Lead 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al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he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g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y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g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ri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 (LEA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5" name="Text Box 1068"/>
          <p:cNvSpPr/>
          <p:nvPr/>
        </p:nvSpPr>
        <p:spPr>
          <a:xfrm>
            <a:off x="3502080" y="1353960"/>
            <a:ext cx="2752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drew Howar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M) Electronic Technician – Senior Lea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069"/>
          <p:cNvSpPr/>
          <p:nvPr/>
        </p:nvSpPr>
        <p:spPr>
          <a:xfrm>
            <a:off x="2354400" y="766800"/>
            <a:ext cx="503532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t Carson, C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4ISR RSC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071"/>
          <p:cNvSpPr/>
          <p:nvPr/>
        </p:nvSpPr>
        <p:spPr>
          <a:xfrm>
            <a:off x="692280" y="2050920"/>
            <a:ext cx="2881080" cy="31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115920" y="2608200"/>
          <a:ext cx="3875040" cy="426960"/>
        </p:xfrm>
        <a:graphic>
          <a:graphicData uri="http://schemas.openxmlformats.org/drawingml/2006/table">
            <a:tbl>
              <a:tblPr/>
              <a:tblGrid>
                <a:gridCol w="182520"/>
                <a:gridCol w="614520"/>
                <a:gridCol w="568080"/>
                <a:gridCol w="274680"/>
                <a:gridCol w="2235240"/>
              </a:tblGrid>
              <a:tr h="214200"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s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go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 (LEA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9" name="Text Box 1175"/>
          <p:cNvSpPr/>
          <p:nvPr/>
        </p:nvSpPr>
        <p:spPr>
          <a:xfrm>
            <a:off x="5157720" y="2028960"/>
            <a:ext cx="3149640" cy="31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istics / Production Contr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226"/>
          <p:cNvSpPr/>
          <p:nvPr/>
        </p:nvSpPr>
        <p:spPr>
          <a:xfrm>
            <a:off x="5164200" y="4479840"/>
            <a:ext cx="3265560" cy="331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ic / IEW Sh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228"/>
          <p:cNvSpPr/>
          <p:nvPr/>
        </p:nvSpPr>
        <p:spPr>
          <a:xfrm>
            <a:off x="384120" y="3699000"/>
            <a:ext cx="326700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unications Sh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4375080" y="2589120"/>
          <a:ext cx="5048280" cy="1533600"/>
        </p:xfrm>
        <a:graphic>
          <a:graphicData uri="http://schemas.openxmlformats.org/drawingml/2006/table">
            <a:tbl>
              <a:tblPr/>
              <a:tblGrid>
                <a:gridCol w="298440"/>
                <a:gridCol w="881280"/>
                <a:gridCol w="792000"/>
                <a:gridCol w="533520"/>
                <a:gridCol w="25430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al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i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say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n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– Intermediate (Admin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anza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o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Senior Lead (LEA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tn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iser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ggier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h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GMS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r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GIM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-Intermediate </a:t>
                      </a:r>
                      <a:r>
                        <a:rPr b="1" lang="en-US" sz="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3187800" y="1531800"/>
            <a:ext cx="331776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verett Whi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DY) Management Specialist - Sr. Lead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3565440" y="1060560"/>
            <a:ext cx="2562480" cy="24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Lewis, W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500040" y="2736720"/>
          <a:ext cx="5443560" cy="4676760"/>
        </p:xfrm>
        <a:graphic>
          <a:graphicData uri="http://schemas.openxmlformats.org/drawingml/2006/table">
            <a:tbl>
              <a:tblPr/>
              <a:tblGrid>
                <a:gridCol w="274680"/>
                <a:gridCol w="860400"/>
                <a:gridCol w="860400"/>
                <a:gridCol w="485640"/>
                <a:gridCol w="2962440"/>
              </a:tblGrid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w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rom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tels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 Technician – Entry Lev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8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in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llemu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sti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ld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ot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6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b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o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lectronics Technician – Entry Lev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ess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 </a:t>
                      </a:r>
                      <a:r>
                        <a:rPr b="1" lang="en-US" sz="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TEK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v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lectronics Technician (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P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8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b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mon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jar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n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6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do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Intermediate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ri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er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 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INP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8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 Technici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INP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7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ndu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INP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NY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pli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ep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s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el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h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iam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l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ssistan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ssistan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6" name="Text Box 132"/>
          <p:cNvSpPr/>
          <p:nvPr/>
        </p:nvSpPr>
        <p:spPr>
          <a:xfrm>
            <a:off x="903240" y="2266920"/>
            <a:ext cx="2562120" cy="2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4ISR RSC Oper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33"/>
          <p:cNvSpPr/>
          <p:nvPr/>
        </p:nvSpPr>
        <p:spPr>
          <a:xfrm>
            <a:off x="5846760" y="2236680"/>
            <a:ext cx="2560680" cy="2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waii Forward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5724360" y="2700360"/>
          <a:ext cx="3544920" cy="227160"/>
        </p:xfrm>
        <a:graphic>
          <a:graphicData uri="http://schemas.openxmlformats.org/drawingml/2006/table">
            <a:tbl>
              <a:tblPr/>
              <a:tblGrid>
                <a:gridCol w="192240"/>
                <a:gridCol w="500040"/>
                <a:gridCol w="542880"/>
                <a:gridCol w="287280"/>
                <a:gridCol w="2022480"/>
              </a:tblGrid>
              <a:tr h="2271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od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ne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9" name="Text Box 152"/>
          <p:cNvSpPr/>
          <p:nvPr/>
        </p:nvSpPr>
        <p:spPr>
          <a:xfrm>
            <a:off x="2517480" y="19044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04/02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53"/>
          <p:cNvSpPr/>
          <p:nvPr/>
        </p:nvSpPr>
        <p:spPr>
          <a:xfrm>
            <a:off x="5881680" y="3225960"/>
            <a:ext cx="2562120" cy="2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SC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5602320" y="3708360"/>
          <a:ext cx="3670200" cy="436680"/>
        </p:xfrm>
        <a:graphic>
          <a:graphicData uri="http://schemas.openxmlformats.org/drawingml/2006/table">
            <a:tbl>
              <a:tblPr/>
              <a:tblGrid>
                <a:gridCol w="276120"/>
                <a:gridCol w="571680"/>
                <a:gridCol w="380880"/>
                <a:gridCol w="355680"/>
                <a:gridCol w="2085840"/>
              </a:tblGrid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n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w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AI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–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id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l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AI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– Intermediate 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2960640" y="1541520"/>
            <a:ext cx="380052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avid Young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DE) Project Leader - TESA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2917800" y="915840"/>
            <a:ext cx="3857760" cy="37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403200" y="2095560"/>
            <a:ext cx="4087800" cy="255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4ISR RSC Base Operations – Friedrichsfeld Germ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5"/>
          <p:cNvSpPr/>
          <p:nvPr/>
        </p:nvSpPr>
        <p:spPr>
          <a:xfrm>
            <a:off x="773280" y="6683400"/>
            <a:ext cx="2560320" cy="2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enza, Ita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5730840" y="2089080"/>
            <a:ext cx="3299040" cy="2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sovo, Camp Bondste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324000" y="2422440"/>
          <a:ext cx="4751280" cy="3716280"/>
        </p:xfrm>
        <a:graphic>
          <a:graphicData uri="http://schemas.openxmlformats.org/drawingml/2006/table">
            <a:tbl>
              <a:tblPr/>
              <a:tblGrid>
                <a:gridCol w="166680"/>
                <a:gridCol w="720720"/>
                <a:gridCol w="633240"/>
                <a:gridCol w="309600"/>
                <a:gridCol w="38160"/>
                <a:gridCol w="2882880"/>
              </a:tblGrid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hlstro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gineering Analyst B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tucc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gament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ne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ior C4I Systems Specialist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is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ing Analyst B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-Jureidin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ador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 Management Specialist  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ch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s Operations Analyst C4I Systems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nal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 Management Specialist A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P Systems Analyst – Senior Lead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trigh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l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guration Management Specialist B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ing Analyst (B)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mond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n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Journeyman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z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le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guration Management Specialist A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P Systems Analyst – Senior Lead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heneck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r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i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t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P Systems Analyst – Senior Lead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er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Control Manager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wic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c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 Management Specialist B 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ing Analyst B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ing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ll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eph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P Systems Analyst - Senior Lead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g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ing Analyst (B) –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ylo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s Operations Analyst C4I Systems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m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Analyst - Senior/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gelik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guration Management Specialist A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228600" y="7010280"/>
          <a:ext cx="4589640" cy="257400"/>
        </p:xfrm>
        <a:graphic>
          <a:graphicData uri="http://schemas.openxmlformats.org/drawingml/2006/table">
            <a:tbl>
              <a:tblPr/>
              <a:tblGrid>
                <a:gridCol w="181080"/>
                <a:gridCol w="682560"/>
                <a:gridCol w="684000"/>
                <a:gridCol w="260640"/>
                <a:gridCol w="2781360"/>
              </a:tblGrid>
              <a:tr h="13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nath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ior C4I Systems Specialis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d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nath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guration Management Specialist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9" name=""/>
          <p:cNvGraphicFramePr/>
          <p:nvPr/>
        </p:nvGraphicFramePr>
        <p:xfrm>
          <a:off x="5248440" y="7072200"/>
          <a:ext cx="3895560" cy="198720"/>
        </p:xfrm>
        <a:graphic>
          <a:graphicData uri="http://schemas.openxmlformats.org/drawingml/2006/table">
            <a:tbl>
              <a:tblPr/>
              <a:tblGrid>
                <a:gridCol w="150480"/>
                <a:gridCol w="677880"/>
                <a:gridCol w="587520"/>
                <a:gridCol w="393840"/>
                <a:gridCol w="2085840"/>
              </a:tblGrid>
              <a:tr h="19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bot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fr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ior C4I Systems Specialist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0" name="Text Box 216"/>
          <p:cNvSpPr/>
          <p:nvPr/>
        </p:nvSpPr>
        <p:spPr>
          <a:xfrm>
            <a:off x="5692680" y="6443640"/>
            <a:ext cx="3279960" cy="2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sa / Tirrenia, Ita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5243400" y="4660920"/>
          <a:ext cx="3986280" cy="257040"/>
        </p:xfrm>
        <a:graphic>
          <a:graphicData uri="http://schemas.openxmlformats.org/drawingml/2006/table">
            <a:tbl>
              <a:tblPr/>
              <a:tblGrid>
                <a:gridCol w="189000"/>
                <a:gridCol w="623880"/>
                <a:gridCol w="627120"/>
                <a:gridCol w="287280"/>
                <a:gridCol w="2259000"/>
              </a:tblGrid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zinsk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ymond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Analyst - Senior/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rn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ymon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P Systems Analyst - Senior Lead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2" name="Text Box 234"/>
          <p:cNvSpPr/>
          <p:nvPr/>
        </p:nvSpPr>
        <p:spPr>
          <a:xfrm>
            <a:off x="5632560" y="4229280"/>
            <a:ext cx="3297240" cy="24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kenheim, Germ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235"/>
          <p:cNvSpPr/>
          <p:nvPr/>
        </p:nvSpPr>
        <p:spPr>
          <a:xfrm>
            <a:off x="2517480" y="19044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04/02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5437080" y="2401920"/>
          <a:ext cx="4256280" cy="406440"/>
        </p:xfrm>
        <a:graphic>
          <a:graphicData uri="http://schemas.openxmlformats.org/drawingml/2006/table">
            <a:tbl>
              <a:tblPr/>
              <a:tblGrid>
                <a:gridCol w="198720"/>
                <a:gridCol w="682560"/>
                <a:gridCol w="682560"/>
                <a:gridCol w="288720"/>
                <a:gridCol w="240372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Analy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insk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Analy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5" name=""/>
          <p:cNvGraphicFramePr/>
          <p:nvPr/>
        </p:nvGraphicFramePr>
        <p:xfrm>
          <a:off x="5191200" y="5772240"/>
          <a:ext cx="3894120" cy="245880"/>
        </p:xfrm>
        <a:graphic>
          <a:graphicData uri="http://schemas.openxmlformats.org/drawingml/2006/table">
            <a:tbl>
              <a:tblPr/>
              <a:tblGrid>
                <a:gridCol w="150840"/>
                <a:gridCol w="630000"/>
                <a:gridCol w="468360"/>
                <a:gridCol w="327240"/>
                <a:gridCol w="2317680"/>
              </a:tblGrid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ne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guration Management Specialist A (TESA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Text Box 283"/>
          <p:cNvSpPr/>
          <p:nvPr/>
        </p:nvSpPr>
        <p:spPr>
          <a:xfrm>
            <a:off x="5654520" y="5275440"/>
            <a:ext cx="3278520" cy="24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esbaden, Germ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84"/>
          <p:cNvSpPr/>
          <p:nvPr/>
        </p:nvSpPr>
        <p:spPr>
          <a:xfrm>
            <a:off x="5622840" y="3260880"/>
            <a:ext cx="3297240" cy="24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wetzingen, Germ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5297400" y="3587760"/>
          <a:ext cx="4133880" cy="244440"/>
        </p:xfrm>
        <a:graphic>
          <a:graphicData uri="http://schemas.openxmlformats.org/drawingml/2006/table">
            <a:tbl>
              <a:tblPr/>
              <a:tblGrid>
                <a:gridCol w="160560"/>
                <a:gridCol w="581040"/>
                <a:gridCol w="663480"/>
                <a:gridCol w="271440"/>
                <a:gridCol w="2457360"/>
              </a:tblGrid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lokonsk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lodymy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P Systems Analyst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2421360" y="44136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04/02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508200" y="2017800"/>
            <a:ext cx="267660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Alan Limb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DJ) Management Specialist - Journeyma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2241720" y="1252440"/>
            <a:ext cx="52084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4ISR RSC - Kore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717480" y="3220920"/>
            <a:ext cx="2687760" cy="25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ijongbu, Kore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747720" y="4811760"/>
            <a:ext cx="2690640" cy="25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oul, Kore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490680" y="3686040"/>
          <a:ext cx="4174920" cy="792360"/>
        </p:xfrm>
        <a:graphic>
          <a:graphicData uri="http://schemas.openxmlformats.org/drawingml/2006/table">
            <a:tbl>
              <a:tblPr/>
              <a:tblGrid>
                <a:gridCol w="258480"/>
                <a:gridCol w="549360"/>
                <a:gridCol w="546120"/>
                <a:gridCol w="365040"/>
                <a:gridCol w="2455920"/>
              </a:tblGrid>
              <a:tr h="33048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h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d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illip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h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erty Management Specialist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p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st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5" name=""/>
          <p:cNvGraphicFramePr/>
          <p:nvPr/>
        </p:nvGraphicFramePr>
        <p:xfrm>
          <a:off x="522360" y="5076720"/>
          <a:ext cx="3989160" cy="244440"/>
        </p:xfrm>
        <a:graphic>
          <a:graphicData uri="http://schemas.openxmlformats.org/drawingml/2006/table">
            <a:tbl>
              <a:tblPr/>
              <a:tblGrid>
                <a:gridCol w="228600"/>
                <a:gridCol w="574560"/>
                <a:gridCol w="693720"/>
                <a:gridCol w="442800"/>
                <a:gridCol w="2049480"/>
              </a:tblGrid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ust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6" name="Text Box 49"/>
          <p:cNvSpPr/>
          <p:nvPr/>
        </p:nvSpPr>
        <p:spPr>
          <a:xfrm>
            <a:off x="5351400" y="3084480"/>
            <a:ext cx="2689200" cy="25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ongtaek, Kore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4846680" y="3557520"/>
          <a:ext cx="5033880" cy="1457280"/>
        </p:xfrm>
        <a:graphic>
          <a:graphicData uri="http://schemas.openxmlformats.org/drawingml/2006/table">
            <a:tbl>
              <a:tblPr/>
              <a:tblGrid>
                <a:gridCol w="222120"/>
                <a:gridCol w="662040"/>
                <a:gridCol w="528840"/>
                <a:gridCol w="358560"/>
                <a:gridCol w="3262320"/>
              </a:tblGrid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kman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st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rtschell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w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ou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chol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yLo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09"/>
          <p:cNvSpPr/>
          <p:nvPr/>
        </p:nvSpPr>
        <p:spPr>
          <a:xfrm>
            <a:off x="1195560" y="2260440"/>
            <a:ext cx="14443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FISHER, CAROL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BA-J] {S3A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28 MAY 06  (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10"/>
          <p:cNvSpPr/>
          <p:nvPr/>
        </p:nvSpPr>
        <p:spPr>
          <a:xfrm>
            <a:off x="1195560" y="2516040"/>
            <a:ext cx="1609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JIMENEZ-SANTIAGO, KEILA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MS-J] {S3A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2 SEP 04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20"/>
          <p:cNvSpPr/>
          <p:nvPr/>
        </p:nvSpPr>
        <p:spPr>
          <a:xfrm>
            <a:off x="2332080" y="4309920"/>
            <a:ext cx="14637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TRYJEWSKI, CASIMIR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MS-SL]  {S3A}                 IC: 15 DEC 07 ( SITE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33"/>
          <p:cNvSpPr/>
          <p:nvPr/>
        </p:nvSpPr>
        <p:spPr>
          <a:xfrm>
            <a:off x="469800" y="5186520"/>
            <a:ext cx="1467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ECKNER, LARRY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MS -SL] 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06 SEP 08 (SITE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_s2135"/>
          <p:cNvSpPr/>
          <p:nvPr/>
        </p:nvSpPr>
        <p:spPr>
          <a:xfrm>
            <a:off x="3760920" y="3452760"/>
            <a:ext cx="1857240" cy="258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480" rIns="24480" tIns="12240" bIns="12240" anchor="ctr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ARTON, KELLY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MS-SL]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13 FEB 05  (OEF THEATER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LOC:BAGRAM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34"/>
          <p:cNvSpPr/>
          <p:nvPr/>
        </p:nvSpPr>
        <p:spPr>
          <a:xfrm>
            <a:off x="7475400" y="4309920"/>
            <a:ext cx="14288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ASWELL, RANDY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MS-SL] {S3A}              IC: 30 OCT 08 (SITE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_s2135"/>
          <p:cNvSpPr/>
          <p:nvPr/>
        </p:nvSpPr>
        <p:spPr>
          <a:xfrm>
            <a:off x="3757680" y="1082520"/>
            <a:ext cx="191304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480" rIns="24480" tIns="12240" bIns="12240" anchor="ctr">
            <a:no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700" spc="-1" strike="noStrike" u="sng">
                <a:solidFill>
                  <a:srgbClr val="008000"/>
                </a:solidFill>
                <a:uFillTx/>
                <a:latin typeface="Arial"/>
              </a:rPr>
              <a:t>GREGORY, PAUL</a:t>
            </a:r>
            <a:r>
              <a:rPr b="1" lang="en-US" sz="700" spc="-1" strike="noStrike">
                <a:solidFill>
                  <a:srgbClr val="008000"/>
                </a:solidFill>
                <a:latin typeface="Arial"/>
              </a:rPr>
              <a:t> [PMD-SL] {S3A}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Arial"/>
              </a:rPr>
              <a:t>IC: 16 MAY 09 (THEATER MANAGER)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19"/>
          <p:cNvSpPr/>
          <p:nvPr/>
        </p:nvSpPr>
        <p:spPr>
          <a:xfrm>
            <a:off x="3751200" y="3137040"/>
            <a:ext cx="183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JOHANSEN, ROBERT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 [PMD-SL]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25 JUL 06 ( OIF THEATER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LOC: BAGHDAD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20"/>
          <p:cNvSpPr/>
          <p:nvPr/>
        </p:nvSpPr>
        <p:spPr>
          <a:xfrm>
            <a:off x="469800" y="4309920"/>
            <a:ext cx="1463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RAINS, GENE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MS-SL]  {S3A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20 MAR 06 (SITE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49"/>
          <p:cNvSpPr/>
          <p:nvPr/>
        </p:nvSpPr>
        <p:spPr>
          <a:xfrm>
            <a:off x="1122480" y="1055520"/>
            <a:ext cx="1825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JACKSON, JAHYOUTH 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MS-SL] {S3A}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05 DEC 08  (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49"/>
          <p:cNvSpPr/>
          <p:nvPr/>
        </p:nvSpPr>
        <p:spPr>
          <a:xfrm>
            <a:off x="1122480" y="1274760"/>
            <a:ext cx="1643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HARRIS, DONNA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A-I] 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1 NOV 0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06"/>
          <p:cNvSpPr/>
          <p:nvPr/>
        </p:nvSpPr>
        <p:spPr>
          <a:xfrm>
            <a:off x="1122480" y="1494000"/>
            <a:ext cx="1716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33399"/>
                </a:solidFill>
                <a:uFillTx/>
                <a:latin typeface="Arial"/>
              </a:rPr>
              <a:t>BASS, DELPHINE </a:t>
            </a:r>
            <a:r>
              <a:rPr b="0" lang="en-US" sz="600" spc="-1" strike="noStrike">
                <a:solidFill>
                  <a:srgbClr val="333399"/>
                </a:solidFill>
                <a:latin typeface="Arial"/>
              </a:rPr>
              <a:t>  [PA-I]   {S3A}</a:t>
            </a:r>
            <a:r>
              <a:rPr b="1" lang="en-US" sz="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333399"/>
                </a:solidFill>
                <a:latin typeface="Arial"/>
              </a:rPr>
              <a:t>ETA:  03 APR 10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18"/>
          <p:cNvSpPr/>
          <p:nvPr/>
        </p:nvSpPr>
        <p:spPr>
          <a:xfrm>
            <a:off x="6489720" y="1201680"/>
            <a:ext cx="1511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DENNIS, JOHN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 [PMD-SL] {S3A} (CSC)</a:t>
            </a: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 23 JAN 10  (OPS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24"/>
          <p:cNvSpPr/>
          <p:nvPr/>
        </p:nvSpPr>
        <p:spPr>
          <a:xfrm>
            <a:off x="5532480" y="4538520"/>
            <a:ext cx="14191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cc00ff"/>
                </a:solidFill>
                <a:uFillTx/>
                <a:latin typeface="Arial"/>
              </a:rPr>
              <a:t>BENOIT, EDWARD</a:t>
            </a: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   [MS-SL]   {S3A}</a:t>
            </a:r>
            <a:br>
              <a:rPr sz="600"/>
            </a:b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ETA: MAY 10                     (35660BR 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ounded Rectangle 21"/>
          <p:cNvSpPr/>
          <p:nvPr/>
        </p:nvSpPr>
        <p:spPr>
          <a:xfrm>
            <a:off x="5418000" y="4253040"/>
            <a:ext cx="1543320" cy="5713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37"/>
          <p:cNvSpPr/>
          <p:nvPr/>
        </p:nvSpPr>
        <p:spPr>
          <a:xfrm>
            <a:off x="5532480" y="4309920"/>
            <a:ext cx="14288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ESTES, DAVID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FST-J] {AR1}                                                  IC: 20 OCT 07  (SITE MANAGER 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24"/>
          <p:cNvSpPr/>
          <p:nvPr/>
        </p:nvSpPr>
        <p:spPr>
          <a:xfrm>
            <a:off x="7475400" y="4538520"/>
            <a:ext cx="14194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cc00ff"/>
                </a:solidFill>
                <a:uFillTx/>
                <a:latin typeface="Arial"/>
              </a:rPr>
              <a:t>FIELDS, JOHN</a:t>
            </a: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   [MS-SL]       {S3A}</a:t>
            </a:r>
            <a:br>
              <a:rPr sz="600"/>
            </a:b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ETA: MAY 10                  (35661BR 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ounded Rectangle 24"/>
          <p:cNvSpPr/>
          <p:nvPr/>
        </p:nvSpPr>
        <p:spPr>
          <a:xfrm>
            <a:off x="7361280" y="4253040"/>
            <a:ext cx="1542960" cy="5713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81"/>
          <p:cNvSpPr/>
          <p:nvPr/>
        </p:nvSpPr>
        <p:spPr>
          <a:xfrm>
            <a:off x="2332080" y="5167440"/>
            <a:ext cx="1527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AMERON, WILLIAM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FST-J]  {S3A}           IC: 01 OCT 08 (SITE LEAD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81"/>
          <p:cNvSpPr/>
          <p:nvPr/>
        </p:nvSpPr>
        <p:spPr>
          <a:xfrm>
            <a:off x="7475400" y="4938840"/>
            <a:ext cx="1387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LEE, VALERIE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     [MS-SL]     {S3A}             IC: 27 MAR 10 (SITE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_s2131"/>
          <p:cNvSpPr/>
          <p:nvPr/>
        </p:nvSpPr>
        <p:spPr>
          <a:xfrm>
            <a:off x="209520" y="2443320"/>
            <a:ext cx="1273320" cy="2016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480" rIns="24480" tIns="12240" bIns="12240" anchor="ctr">
            <a:no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CKNIGHT, MARLO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C-I] {AR1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7 SEP 0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_s2137"/>
          <p:cNvSpPr/>
          <p:nvPr/>
        </p:nvSpPr>
        <p:spPr>
          <a:xfrm>
            <a:off x="611280" y="2708280"/>
            <a:ext cx="1241280" cy="24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71"/>
          <p:cNvSpPr/>
          <p:nvPr/>
        </p:nvSpPr>
        <p:spPr>
          <a:xfrm>
            <a:off x="5759280" y="3502080"/>
            <a:ext cx="12733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APINO, TIMOTHY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I]   {WR3}   IC: 14 MAR 05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72"/>
          <p:cNvSpPr/>
          <p:nvPr/>
        </p:nvSpPr>
        <p:spPr>
          <a:xfrm>
            <a:off x="217440" y="3909960"/>
            <a:ext cx="134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TART, DARREL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S-J] {R3E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 APR 0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73"/>
          <p:cNvSpPr/>
          <p:nvPr/>
        </p:nvSpPr>
        <p:spPr>
          <a:xfrm>
            <a:off x="217440" y="2195640"/>
            <a:ext cx="16066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ARRERO, JOSE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PMS-SL] {S3A}                       IC: 09 NOV 03 (LOGISTICS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75"/>
          <p:cNvSpPr/>
          <p:nvPr/>
        </p:nvSpPr>
        <p:spPr>
          <a:xfrm>
            <a:off x="209520" y="3648240"/>
            <a:ext cx="159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IMES, FRANKIE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PMS-SL] {S3A}                           IC: 14 MAR 04   (TRANSPORTATION LEAD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89"/>
          <p:cNvSpPr/>
          <p:nvPr/>
        </p:nvSpPr>
        <p:spPr>
          <a:xfrm>
            <a:off x="5759280" y="3246480"/>
            <a:ext cx="1460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FENDER, DONNIE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SL]  {W3R}             IC: 02 MAY 05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93"/>
          <p:cNvSpPr/>
          <p:nvPr/>
        </p:nvSpPr>
        <p:spPr>
          <a:xfrm>
            <a:off x="1989000" y="3795840"/>
            <a:ext cx="1427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ESSELLIEU, LYMAN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PMS-J] {S3A}                                 IC: 27 NOV  07 (PC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203"/>
          <p:cNvSpPr/>
          <p:nvPr/>
        </p:nvSpPr>
        <p:spPr>
          <a:xfrm>
            <a:off x="4103640" y="5167440"/>
            <a:ext cx="1287360" cy="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8000"/>
                </a:solidFill>
                <a:uFillTx/>
                <a:latin typeface="Arial"/>
              </a:rPr>
              <a:t>60 Personnel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_s2137"/>
          <p:cNvSpPr/>
          <p:nvPr/>
        </p:nvSpPr>
        <p:spPr>
          <a:xfrm>
            <a:off x="209520" y="2662200"/>
            <a:ext cx="1432080" cy="19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ALDWIN, DAVID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S-J] {S3A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4 FEB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206"/>
          <p:cNvSpPr/>
          <p:nvPr/>
        </p:nvSpPr>
        <p:spPr>
          <a:xfrm>
            <a:off x="5761080" y="3738600"/>
            <a:ext cx="1569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MOLINA, NICK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 [FST-I] { W3R}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  (35451B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ETA:  MAR 10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43"/>
          <p:cNvSpPr/>
          <p:nvPr/>
        </p:nvSpPr>
        <p:spPr>
          <a:xfrm>
            <a:off x="4773600" y="2004840"/>
            <a:ext cx="14968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VEGA, EDWIN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PMD-SL] {W3R}                   IC: 12 OCT 04  (FACILITY  MANAGER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46"/>
          <p:cNvSpPr/>
          <p:nvPr/>
        </p:nvSpPr>
        <p:spPr>
          <a:xfrm>
            <a:off x="4773600" y="2260440"/>
            <a:ext cx="15397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THOMAS, KENNETH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FST-SL] {W3R}            IC: 25 JUL 09 ( DEPUTY MANAGE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87"/>
          <p:cNvSpPr/>
          <p:nvPr/>
        </p:nvSpPr>
        <p:spPr>
          <a:xfrm>
            <a:off x="1962000" y="3100320"/>
            <a:ext cx="15894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OLLINS, KENNETH[    [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ELT-J] {AR1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7 AUG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192"/>
          <p:cNvSpPr/>
          <p:nvPr/>
        </p:nvSpPr>
        <p:spPr>
          <a:xfrm>
            <a:off x="3933720" y="3027240"/>
            <a:ext cx="1606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" bIns="252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ANDREWS, WANDA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 [PMS-J] {W3R}                IC: 20 SEP 09   (LEAD LOGISTICIAN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76"/>
          <p:cNvSpPr/>
          <p:nvPr/>
        </p:nvSpPr>
        <p:spPr>
          <a:xfrm>
            <a:off x="209520" y="2881440"/>
            <a:ext cx="13064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OXON, PETER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S-J]  (S3A)                          IC: 12 JUL 08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89"/>
          <p:cNvSpPr/>
          <p:nvPr/>
        </p:nvSpPr>
        <p:spPr>
          <a:xfrm>
            <a:off x="5759280" y="2954160"/>
            <a:ext cx="13161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WELCH, DAVID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FST-J] {W3R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23 NOV 03 (TCN MANAGER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91"/>
          <p:cNvSpPr/>
          <p:nvPr/>
        </p:nvSpPr>
        <p:spPr>
          <a:xfrm>
            <a:off x="5761080" y="4881600"/>
            <a:ext cx="1569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ALVARADO, ARTURO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[FST-SL] {W3R}      IC: 23 JAN 10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92"/>
          <p:cNvSpPr/>
          <p:nvPr/>
        </p:nvSpPr>
        <p:spPr>
          <a:xfrm>
            <a:off x="3933720" y="3282840"/>
            <a:ext cx="16066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" bIns="252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RINKERHOFF, MICHAE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C-I] {W3R}               IC:  26 OCT 09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203"/>
          <p:cNvSpPr/>
          <p:nvPr/>
        </p:nvSpPr>
        <p:spPr>
          <a:xfrm>
            <a:off x="2103480" y="5224320"/>
            <a:ext cx="1287360" cy="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8000"/>
                </a:solidFill>
                <a:uFillTx/>
                <a:latin typeface="Arial"/>
              </a:rPr>
              <a:t>6 Personnel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33"/>
          <p:cNvSpPr/>
          <p:nvPr/>
        </p:nvSpPr>
        <p:spPr>
          <a:xfrm>
            <a:off x="209520" y="3429000"/>
            <a:ext cx="142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78"/>
          <p:cNvSpPr/>
          <p:nvPr/>
        </p:nvSpPr>
        <p:spPr>
          <a:xfrm>
            <a:off x="1962000" y="2260440"/>
            <a:ext cx="17892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CDOWELL, CHARLES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SL] {BM5}             IC: 23 JAN 10                          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33869BR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311"/>
          <p:cNvSpPr/>
          <p:nvPr/>
        </p:nvSpPr>
        <p:spPr>
          <a:xfrm>
            <a:off x="1989000" y="4024440"/>
            <a:ext cx="1654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ECHTOLD, BRENDA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PMS-SL] 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5FEB 10                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_s2135"/>
          <p:cNvSpPr/>
          <p:nvPr/>
        </p:nvSpPr>
        <p:spPr>
          <a:xfrm>
            <a:off x="7704000" y="4195800"/>
            <a:ext cx="1679760" cy="257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480" rIns="24480" tIns="12240" bIns="12240" anchor="ctr">
            <a:no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WINSETTE, ALEX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MS-SL]  {S3A}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2 DEC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91"/>
          <p:cNvSpPr/>
          <p:nvPr/>
        </p:nvSpPr>
        <p:spPr>
          <a:xfrm>
            <a:off x="7704000" y="2595600"/>
            <a:ext cx="1643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FAUX, WILLIAM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D-SL]   {S3A}  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C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4 DEC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18"/>
          <p:cNvSpPr/>
          <p:nvPr/>
        </p:nvSpPr>
        <p:spPr>
          <a:xfrm>
            <a:off x="7704000" y="3510000"/>
            <a:ext cx="1643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RADSHAW, RICHARD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MS-SL] {S3A} (CSC)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 6 MAR 10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06"/>
          <p:cNvSpPr/>
          <p:nvPr/>
        </p:nvSpPr>
        <p:spPr>
          <a:xfrm>
            <a:off x="5761080" y="3967200"/>
            <a:ext cx="1569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ff0000"/>
                </a:solidFill>
                <a:uFillTx/>
                <a:latin typeface="Arial"/>
              </a:rPr>
              <a:t>VACANT 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  [FST-SL]  {W3R}</a:t>
            </a:r>
            <a:r>
              <a:rPr b="1" lang="en-US" sz="600" spc="-1" strike="noStrike">
                <a:solidFill>
                  <a:srgbClr val="ff0000"/>
                </a:solidFill>
                <a:latin typeface="Arial"/>
              </a:rPr>
              <a:t>       (33226B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ETA: MAR 10                      (Dave Welch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06"/>
          <p:cNvSpPr/>
          <p:nvPr/>
        </p:nvSpPr>
        <p:spPr>
          <a:xfrm>
            <a:off x="5761080" y="4195800"/>
            <a:ext cx="1569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ff0000"/>
                </a:solidFill>
                <a:uFillTx/>
                <a:latin typeface="Arial"/>
              </a:rPr>
              <a:t>BASKARAN, AJUKUMAR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 [FST-]  {W3R}</a:t>
            </a:r>
            <a:r>
              <a:rPr b="1" lang="en-US" sz="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ETA:  TBD</a:t>
            </a:r>
            <a:r>
              <a:rPr b="1" lang="en-US" sz="600" spc="-1" strike="noStrike">
                <a:solidFill>
                  <a:srgbClr val="ff0000"/>
                </a:solidFill>
                <a:latin typeface="Arial"/>
              </a:rPr>
              <a:t>                 [ITH]          (36466BR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61"/>
          <p:cNvSpPr/>
          <p:nvPr/>
        </p:nvSpPr>
        <p:spPr>
          <a:xfrm>
            <a:off x="7761240" y="5110200"/>
            <a:ext cx="1354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OULE, JEFFREY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A-J] {S3A}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2 JUL 08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BAGDAD, IRAQ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18"/>
          <p:cNvSpPr/>
          <p:nvPr/>
        </p:nvSpPr>
        <p:spPr>
          <a:xfrm>
            <a:off x="7704000" y="1795320"/>
            <a:ext cx="1511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KIRK, ANDRE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MS-SL] {S3A} (CSC)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0FEB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206"/>
          <p:cNvSpPr/>
          <p:nvPr/>
        </p:nvSpPr>
        <p:spPr>
          <a:xfrm>
            <a:off x="1989000" y="4253040"/>
            <a:ext cx="1657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cc00ff"/>
                </a:solidFill>
                <a:uFillTx/>
                <a:latin typeface="Arial"/>
              </a:rPr>
              <a:t>HUDLIN, GEORGE</a:t>
            </a:r>
            <a:r>
              <a:rPr b="0" lang="en-US" sz="600" spc="-1" strike="noStrike">
                <a:solidFill>
                  <a:srgbClr val="cc00ff"/>
                </a:solidFill>
                <a:latin typeface="Arial"/>
              </a:rPr>
              <a:t>  [MS -J] {S3A}</a:t>
            </a: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cc00ff"/>
                </a:solidFill>
                <a:latin typeface="Arial"/>
              </a:rPr>
              <a:t>ETA:  MAY 10           (</a:t>
            </a: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36007BR</a:t>
            </a:r>
            <a:r>
              <a:rPr b="0" lang="en-US" sz="600" spc="-1" strike="noStrike">
                <a:solidFill>
                  <a:srgbClr val="cc00ff"/>
                </a:solidFill>
                <a:latin typeface="Arial"/>
              </a:rPr>
              <a:t> 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47"/>
          <p:cNvSpPr/>
          <p:nvPr/>
        </p:nvSpPr>
        <p:spPr>
          <a:xfrm>
            <a:off x="7818480" y="4767120"/>
            <a:ext cx="12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ECOM ESSC MGR Asst 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mp Victory, Baghdad, Iraq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206"/>
          <p:cNvSpPr/>
          <p:nvPr/>
        </p:nvSpPr>
        <p:spPr>
          <a:xfrm>
            <a:off x="3932280" y="4538520"/>
            <a:ext cx="156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ff0000"/>
                </a:solidFill>
                <a:uFillTx/>
                <a:latin typeface="Arial"/>
              </a:rPr>
              <a:t>VACANT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  {W3R}</a:t>
            </a:r>
            <a:r>
              <a:rPr b="1" lang="en-US" sz="600" spc="-1" strike="noStrike">
                <a:solidFill>
                  <a:srgbClr val="ff0000"/>
                </a:solidFill>
                <a:latin typeface="Arial"/>
              </a:rPr>
              <a:t>                                           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ETA:  MAY 10     (</a:t>
            </a:r>
            <a:r>
              <a:rPr b="1" lang="en-US" sz="600" spc="-1" strike="noStrike">
                <a:solidFill>
                  <a:srgbClr val="ff0000"/>
                </a:solidFill>
                <a:latin typeface="Arial"/>
              </a:rPr>
              <a:t>CSC Sub-Contract) 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93"/>
          <p:cNvSpPr/>
          <p:nvPr/>
        </p:nvSpPr>
        <p:spPr>
          <a:xfrm>
            <a:off x="217440" y="4767120"/>
            <a:ext cx="16002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PORNTHEP, MEENGERN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 [ET –SL] {S3A} ETA: 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TBD         (Authorized slot)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  (35970B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06"/>
          <p:cNvSpPr/>
          <p:nvPr/>
        </p:nvSpPr>
        <p:spPr>
          <a:xfrm>
            <a:off x="3932280" y="3567240"/>
            <a:ext cx="1657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ff0000"/>
                </a:solidFill>
                <a:uFillTx/>
                <a:latin typeface="Arial"/>
              </a:rPr>
              <a:t>VACANT 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  [PMS -J]     {W3R}       </a:t>
            </a:r>
            <a:r>
              <a:rPr b="1" lang="en-US" sz="600" spc="-1" strike="noStrike">
                <a:solidFill>
                  <a:srgbClr val="ff0000"/>
                </a:solidFill>
                <a:latin typeface="Arial"/>
              </a:rPr>
              <a:t>(36340B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ETA: TBD (Replacement for Eugene Armstrong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ounded Rectangle 48"/>
          <p:cNvSpPr/>
          <p:nvPr/>
        </p:nvSpPr>
        <p:spPr>
          <a:xfrm>
            <a:off x="7589880" y="3052800"/>
            <a:ext cx="1771560" cy="799920"/>
          </a:xfrm>
          <a:prstGeom prst="roundRect">
            <a:avLst>
              <a:gd name="adj" fmla="val 17824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ounded Rectangle 49"/>
          <p:cNvSpPr/>
          <p:nvPr/>
        </p:nvSpPr>
        <p:spPr>
          <a:xfrm>
            <a:off x="7589880" y="3909960"/>
            <a:ext cx="1771560" cy="743040"/>
          </a:xfrm>
          <a:prstGeom prst="roundRect">
            <a:avLst>
              <a:gd name="adj" fmla="val 17824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92"/>
          <p:cNvSpPr/>
          <p:nvPr/>
        </p:nvSpPr>
        <p:spPr>
          <a:xfrm>
            <a:off x="7875720" y="1452600"/>
            <a:ext cx="1380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ANAOIS, MICHAE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PMS-SL]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4 JUN 07 (LEAD LOGISTICIAN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293"/>
          <p:cNvSpPr/>
          <p:nvPr/>
        </p:nvSpPr>
        <p:spPr>
          <a:xfrm>
            <a:off x="7875720" y="2508120"/>
            <a:ext cx="114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AZUL, GERALD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0 OCT 0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296"/>
          <p:cNvSpPr/>
          <p:nvPr/>
        </p:nvSpPr>
        <p:spPr>
          <a:xfrm>
            <a:off x="7767720" y="2808360"/>
            <a:ext cx="1716120" cy="6937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CU’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322"/>
          <p:cNvSpPr/>
          <p:nvPr/>
        </p:nvSpPr>
        <p:spPr>
          <a:xfrm>
            <a:off x="7875720" y="2276640"/>
            <a:ext cx="1380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VAZQUEZ, CARLO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MS-SL] {R3E}           IC: 15 JUL 07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329"/>
          <p:cNvSpPr/>
          <p:nvPr/>
        </p:nvSpPr>
        <p:spPr>
          <a:xfrm>
            <a:off x="7840800" y="3027240"/>
            <a:ext cx="1595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ANCHEZ, ARTURO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AR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3 OCT 07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284"/>
          <p:cNvSpPr/>
          <p:nvPr/>
        </p:nvSpPr>
        <p:spPr>
          <a:xfrm>
            <a:off x="7767720" y="1238400"/>
            <a:ext cx="1716120" cy="7491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284"/>
          <p:cNvSpPr/>
          <p:nvPr/>
        </p:nvSpPr>
        <p:spPr>
          <a:xfrm>
            <a:off x="7767720" y="2077920"/>
            <a:ext cx="1716120" cy="6573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54"/>
          <p:cNvSpPr/>
          <p:nvPr/>
        </p:nvSpPr>
        <p:spPr>
          <a:xfrm>
            <a:off x="246240" y="4270320"/>
            <a:ext cx="1280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GARZA, ESTEBA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AR1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2 APR  07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55"/>
          <p:cNvSpPr/>
          <p:nvPr/>
        </p:nvSpPr>
        <p:spPr>
          <a:xfrm>
            <a:off x="250920" y="3117960"/>
            <a:ext cx="1380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OSWELL, EDUARDO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SL] {BE7}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1 JUL  07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58"/>
          <p:cNvSpPr/>
          <p:nvPr/>
        </p:nvSpPr>
        <p:spPr>
          <a:xfrm>
            <a:off x="2035080" y="1494000"/>
            <a:ext cx="13971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LIVINGSTON, CRAIG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SL]  {DT2}          IC: 7 FEB 08 (TS/SCI)  (TECH LEAD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64"/>
          <p:cNvSpPr/>
          <p:nvPr/>
        </p:nvSpPr>
        <p:spPr>
          <a:xfrm>
            <a:off x="246240" y="1494000"/>
            <a:ext cx="1558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ASSENBURG, PETER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S-SL] {S3A}    IC: 28 JULY 09  (LEAD LOGISTICIAN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65"/>
          <p:cNvSpPr/>
          <p:nvPr/>
        </p:nvSpPr>
        <p:spPr>
          <a:xfrm>
            <a:off x="2035080" y="1749600"/>
            <a:ext cx="16750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RATHER, BRUCE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J]  {DT2}                             IC:  04 JULY 09  (TS/SCI)  (Rotational / Bragg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278"/>
          <p:cNvSpPr/>
          <p:nvPr/>
        </p:nvSpPr>
        <p:spPr>
          <a:xfrm>
            <a:off x="1989000" y="2881440"/>
            <a:ext cx="1714680" cy="8571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por Tracer / 101W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24"/>
          <p:cNvSpPr/>
          <p:nvPr/>
        </p:nvSpPr>
        <p:spPr>
          <a:xfrm>
            <a:off x="246240" y="1749600"/>
            <a:ext cx="1579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OTTON, CASEY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L-I] {S3A}  (CSC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2 OCT 0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326"/>
          <p:cNvSpPr/>
          <p:nvPr/>
        </p:nvSpPr>
        <p:spPr>
          <a:xfrm>
            <a:off x="136440" y="2881440"/>
            <a:ext cx="1716120" cy="8395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-RA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284"/>
          <p:cNvSpPr/>
          <p:nvPr/>
        </p:nvSpPr>
        <p:spPr>
          <a:xfrm>
            <a:off x="136440" y="1238400"/>
            <a:ext cx="1716120" cy="1569960"/>
          </a:xfrm>
          <a:prstGeom prst="roundRect">
            <a:avLst>
              <a:gd name="adj" fmla="val 9736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284"/>
          <p:cNvSpPr/>
          <p:nvPr/>
        </p:nvSpPr>
        <p:spPr>
          <a:xfrm>
            <a:off x="1989000" y="1238400"/>
            <a:ext cx="1714680" cy="1569960"/>
          </a:xfrm>
          <a:prstGeom prst="roundRect">
            <a:avLst>
              <a:gd name="adj" fmla="val 9194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296"/>
          <p:cNvSpPr/>
          <p:nvPr/>
        </p:nvSpPr>
        <p:spPr>
          <a:xfrm>
            <a:off x="136440" y="3795840"/>
            <a:ext cx="1716120" cy="8395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CU’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04"/>
          <p:cNvSpPr/>
          <p:nvPr/>
        </p:nvSpPr>
        <p:spPr>
          <a:xfrm>
            <a:off x="5869080" y="2625840"/>
            <a:ext cx="1252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OLIVAREZ, DWIGHT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AR1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3 JUL  07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05"/>
          <p:cNvSpPr/>
          <p:nvPr/>
        </p:nvSpPr>
        <p:spPr>
          <a:xfrm>
            <a:off x="5869080" y="1494000"/>
            <a:ext cx="14396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JACOB, CHARLE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S3A} 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6 OCT 07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12"/>
          <p:cNvSpPr/>
          <p:nvPr/>
        </p:nvSpPr>
        <p:spPr>
          <a:xfrm>
            <a:off x="5869080" y="2004840"/>
            <a:ext cx="1377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ROUSE,LUCA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I] {R3E}    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8 AUG  07   (VT / IT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13"/>
          <p:cNvSpPr/>
          <p:nvPr/>
        </p:nvSpPr>
        <p:spPr>
          <a:xfrm>
            <a:off x="4006800" y="3684600"/>
            <a:ext cx="1589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CHROEDER, ROBERT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R3E}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5 MAR 0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14"/>
          <p:cNvSpPr/>
          <p:nvPr/>
        </p:nvSpPr>
        <p:spPr>
          <a:xfrm>
            <a:off x="4006800" y="3100320"/>
            <a:ext cx="122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ARK, CHARLE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S-J] {S3K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4 MAR 07             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(36571BR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18"/>
          <p:cNvSpPr/>
          <p:nvPr/>
        </p:nvSpPr>
        <p:spPr>
          <a:xfrm>
            <a:off x="3933720" y="2881440"/>
            <a:ext cx="1728720" cy="5112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re Find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320"/>
          <p:cNvSpPr/>
          <p:nvPr/>
        </p:nvSpPr>
        <p:spPr>
          <a:xfrm>
            <a:off x="3933720" y="3510000"/>
            <a:ext cx="1752840" cy="798480"/>
          </a:xfrm>
          <a:prstGeom prst="roundRect">
            <a:avLst>
              <a:gd name="adj" fmla="val 14245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1W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284"/>
          <p:cNvSpPr/>
          <p:nvPr/>
        </p:nvSpPr>
        <p:spPr>
          <a:xfrm>
            <a:off x="3933720" y="1238400"/>
            <a:ext cx="1712880" cy="1569960"/>
          </a:xfrm>
          <a:prstGeom prst="roundRect">
            <a:avLst>
              <a:gd name="adj" fmla="val 10745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36"/>
          <p:cNvSpPr/>
          <p:nvPr/>
        </p:nvSpPr>
        <p:spPr>
          <a:xfrm>
            <a:off x="2046240" y="4024440"/>
            <a:ext cx="160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ff0000"/>
                </a:solidFill>
                <a:uFillTx/>
                <a:latin typeface="Arial"/>
              </a:rPr>
              <a:t>SHEPHERD, KEVIN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 [FST-I] {S3A}  </a:t>
            </a:r>
            <a:r>
              <a:rPr b="1" lang="en-US" sz="600" spc="-1" strike="noStrike">
                <a:solidFill>
                  <a:srgbClr val="ff0000"/>
                </a:solidFill>
                <a:latin typeface="Arial"/>
              </a:rPr>
              <a:t>ISO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9001               DEP: 18 MAR 10                               </a:t>
            </a:r>
            <a:r>
              <a:rPr b="1" lang="en-US" sz="600" spc="-1" strike="noStrike">
                <a:solidFill>
                  <a:srgbClr val="ff0000"/>
                </a:solidFill>
                <a:latin typeface="Arial"/>
              </a:rPr>
              <a:t>36285B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334"/>
          <p:cNvSpPr/>
          <p:nvPr/>
        </p:nvSpPr>
        <p:spPr>
          <a:xfrm>
            <a:off x="1989000" y="3852720"/>
            <a:ext cx="1716120" cy="8067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O 9001 / QA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329"/>
          <p:cNvSpPr/>
          <p:nvPr/>
        </p:nvSpPr>
        <p:spPr>
          <a:xfrm>
            <a:off x="7840800" y="3246480"/>
            <a:ext cx="1595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ARNELL, THOMA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I] {AR1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3 JUNE 0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291"/>
          <p:cNvSpPr/>
          <p:nvPr/>
        </p:nvSpPr>
        <p:spPr>
          <a:xfrm>
            <a:off x="246240" y="4014720"/>
            <a:ext cx="1525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GRANT, ORA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SL] {AR1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 : 21 JUN 0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52"/>
          <p:cNvSpPr/>
          <p:nvPr/>
        </p:nvSpPr>
        <p:spPr>
          <a:xfrm>
            <a:off x="2035080" y="2004840"/>
            <a:ext cx="1354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REED, JUSTI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T-I] {DT2}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8 JUNE 09   (TS/SCI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80"/>
          <p:cNvSpPr/>
          <p:nvPr/>
        </p:nvSpPr>
        <p:spPr>
          <a:xfrm>
            <a:off x="7878600" y="1730520"/>
            <a:ext cx="1644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HOUSER, ELLIOT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PMS-SL] {AR1} 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3 JUL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306"/>
          <p:cNvSpPr/>
          <p:nvPr/>
        </p:nvSpPr>
        <p:spPr>
          <a:xfrm>
            <a:off x="4046400" y="1509840"/>
            <a:ext cx="13636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OLEMAN, JAME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S-SL] {S3A}                  IC: 27 JUN 09  (LEAD LOGISTICIAN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306"/>
          <p:cNvSpPr/>
          <p:nvPr/>
        </p:nvSpPr>
        <p:spPr>
          <a:xfrm>
            <a:off x="4046400" y="1738440"/>
            <a:ext cx="15703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ENA, MARTINA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C-I] {S3A} </a:t>
            </a:r>
            <a:br>
              <a:rPr sz="600"/>
            </a:b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5 APR 0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278"/>
          <p:cNvSpPr/>
          <p:nvPr/>
        </p:nvSpPr>
        <p:spPr>
          <a:xfrm>
            <a:off x="5759280" y="1238400"/>
            <a:ext cx="1716120" cy="5112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278"/>
          <p:cNvSpPr/>
          <p:nvPr/>
        </p:nvSpPr>
        <p:spPr>
          <a:xfrm>
            <a:off x="5759280" y="1822320"/>
            <a:ext cx="1716120" cy="5112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por Trac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278"/>
          <p:cNvSpPr/>
          <p:nvPr/>
        </p:nvSpPr>
        <p:spPr>
          <a:xfrm>
            <a:off x="5759280" y="2406600"/>
            <a:ext cx="1716120" cy="5842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27"/>
          <p:cNvSpPr/>
          <p:nvPr/>
        </p:nvSpPr>
        <p:spPr>
          <a:xfrm>
            <a:off x="4046400" y="1967040"/>
            <a:ext cx="15336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cc00ff"/>
                </a:solidFill>
                <a:uFillTx/>
                <a:latin typeface="Arial"/>
              </a:rPr>
              <a:t>SCOTT, JAMES</a:t>
            </a:r>
            <a:r>
              <a:rPr b="0" lang="en-US" sz="600" spc="-1" strike="noStrike">
                <a:solidFill>
                  <a:srgbClr val="cc00ff"/>
                </a:solidFill>
                <a:latin typeface="Arial"/>
              </a:rPr>
              <a:t>    [PMS-J]   {S3A}                            ETA: 24 APR 2010              </a:t>
            </a: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35384B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376"/>
          <p:cNvSpPr/>
          <p:nvPr/>
        </p:nvSpPr>
        <p:spPr>
          <a:xfrm>
            <a:off x="246240" y="2004840"/>
            <a:ext cx="1423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ELLARD, DEREK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SC-I] {S3A}                 IC: 04 OCT 0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311"/>
          <p:cNvSpPr/>
          <p:nvPr/>
        </p:nvSpPr>
        <p:spPr>
          <a:xfrm>
            <a:off x="2035080" y="3063960"/>
            <a:ext cx="1654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WILLIAMS, CALEB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 {R3E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6 DEC 09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302"/>
          <p:cNvSpPr/>
          <p:nvPr/>
        </p:nvSpPr>
        <p:spPr>
          <a:xfrm>
            <a:off x="246240" y="3392640"/>
            <a:ext cx="15699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CALLEJAS, GONZALO 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[FST-J]  {BE7}     ETA: TBD                               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33549BR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302"/>
          <p:cNvSpPr/>
          <p:nvPr/>
        </p:nvSpPr>
        <p:spPr>
          <a:xfrm>
            <a:off x="5869080" y="3355920"/>
            <a:ext cx="1643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HODGES, STEVEN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[FST-J]   {BE7}               IC:11 MAR 10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311"/>
          <p:cNvSpPr/>
          <p:nvPr/>
        </p:nvSpPr>
        <p:spPr>
          <a:xfrm>
            <a:off x="2035080" y="2260440"/>
            <a:ext cx="160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ALBRECHT, ROBERT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ELT-J]  {X2L}           IC: 30 JAN 09     (Rotational / Bragg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326"/>
          <p:cNvSpPr/>
          <p:nvPr/>
        </p:nvSpPr>
        <p:spPr>
          <a:xfrm>
            <a:off x="5759280" y="3100320"/>
            <a:ext cx="1752840" cy="58428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-RAM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296"/>
          <p:cNvSpPr/>
          <p:nvPr/>
        </p:nvSpPr>
        <p:spPr>
          <a:xfrm>
            <a:off x="7731000" y="4051440"/>
            <a:ext cx="1716120" cy="8395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311"/>
          <p:cNvSpPr/>
          <p:nvPr/>
        </p:nvSpPr>
        <p:spPr>
          <a:xfrm>
            <a:off x="4006800" y="3941640"/>
            <a:ext cx="160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CALLADO, FELIX 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  [ET-I]     {R3E}              ETA: 28 MAY 10              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34872BR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AutoShape 284"/>
          <p:cNvSpPr/>
          <p:nvPr/>
        </p:nvSpPr>
        <p:spPr>
          <a:xfrm>
            <a:off x="4956120" y="2114640"/>
            <a:ext cx="1716120" cy="1460520"/>
          </a:xfrm>
          <a:prstGeom prst="roundRect">
            <a:avLst>
              <a:gd name="adj" fmla="val 10861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284"/>
          <p:cNvSpPr/>
          <p:nvPr/>
        </p:nvSpPr>
        <p:spPr>
          <a:xfrm>
            <a:off x="6732720" y="2104920"/>
            <a:ext cx="1771560" cy="2490840"/>
          </a:xfrm>
          <a:custGeom>
            <a:avLst/>
            <a:gdLst>
              <a:gd name="textAreaLeft" fmla="*/ 93960 w 1771560"/>
              <a:gd name="textAreaRight" fmla="*/ 1677600 w 1771560"/>
              <a:gd name="textAreaTop" fmla="*/ 93960 h 2490840"/>
              <a:gd name="textAreaBottom" fmla="*/ 2396880 h 2490840"/>
            </a:gdLst>
            <a:ahLst/>
            <a:rect l="textAreaLeft" t="textAreaTop" r="textAreaRight" b="textAreaBottom"/>
            <a:pathLst>
              <a:path w="21600" h="30368">
                <a:moveTo>
                  <a:pt x="3924" y="0"/>
                </a:moveTo>
                <a:arcTo wR="3924" hR="3924" stAng="16200000" swAng="-5400000"/>
                <a:lnTo>
                  <a:pt x="0" y="26444"/>
                </a:lnTo>
                <a:arcTo wR="3924" hR="3924" stAng="10800000" swAng="-5400000"/>
                <a:lnTo>
                  <a:pt x="17676" y="30368"/>
                </a:lnTo>
                <a:arcTo wR="3924" hR="3924" stAng="5400000" swAng="-5400000"/>
                <a:lnTo>
                  <a:pt x="21600" y="3924"/>
                </a:lnTo>
                <a:arcTo wR="3924" hR="3924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296"/>
          <p:cNvSpPr/>
          <p:nvPr/>
        </p:nvSpPr>
        <p:spPr>
          <a:xfrm>
            <a:off x="4956120" y="3684600"/>
            <a:ext cx="1716120" cy="8049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CU’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235"/>
          <p:cNvSpPr/>
          <p:nvPr/>
        </p:nvSpPr>
        <p:spPr>
          <a:xfrm>
            <a:off x="1074600" y="3166920"/>
            <a:ext cx="1251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RONCO, SAMUE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 {AR1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1 MAY 07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239"/>
          <p:cNvSpPr/>
          <p:nvPr/>
        </p:nvSpPr>
        <p:spPr>
          <a:xfrm>
            <a:off x="1049400" y="2297160"/>
            <a:ext cx="14778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TINSON, BRUCE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S-SL] {S3A}                    IC: 29 MAR 08  (LEAD LOGISTICIAN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307"/>
          <p:cNvSpPr/>
          <p:nvPr/>
        </p:nvSpPr>
        <p:spPr>
          <a:xfrm>
            <a:off x="1054080" y="2563920"/>
            <a:ext cx="1562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ALDWIN, EBONI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C-I] {R3E}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4 JUN 0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284"/>
          <p:cNvSpPr/>
          <p:nvPr/>
        </p:nvSpPr>
        <p:spPr>
          <a:xfrm>
            <a:off x="939960" y="2075040"/>
            <a:ext cx="1746000" cy="8064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296"/>
          <p:cNvSpPr/>
          <p:nvPr/>
        </p:nvSpPr>
        <p:spPr>
          <a:xfrm>
            <a:off x="976320" y="2954160"/>
            <a:ext cx="1716120" cy="1352880"/>
          </a:xfrm>
          <a:prstGeom prst="roundRect">
            <a:avLst>
              <a:gd name="adj" fmla="val 9602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CU’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240"/>
          <p:cNvSpPr/>
          <p:nvPr/>
        </p:nvSpPr>
        <p:spPr>
          <a:xfrm>
            <a:off x="2960640" y="2481120"/>
            <a:ext cx="1552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WOLBOLDT, PAU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SL] {S3A} 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8 APR 09   (TS/SCI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207"/>
          <p:cNvSpPr/>
          <p:nvPr/>
        </p:nvSpPr>
        <p:spPr>
          <a:xfrm>
            <a:off x="6854760" y="2881440"/>
            <a:ext cx="1643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OLLINS, ROBERT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FST-J]   {X2K}                  IC: 04 MAY 09  (TS/SCI )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30"/>
          <p:cNvSpPr/>
          <p:nvPr/>
        </p:nvSpPr>
        <p:spPr>
          <a:xfrm>
            <a:off x="6854760" y="2370240"/>
            <a:ext cx="1576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OURTNEY, JOE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SL]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3 MAY 08  (TECH LEAD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263"/>
          <p:cNvSpPr/>
          <p:nvPr/>
        </p:nvSpPr>
        <p:spPr>
          <a:xfrm>
            <a:off x="5065560" y="2625840"/>
            <a:ext cx="1575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JOHNSON, RODNEY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S-J] {S3A}</a:t>
            </a:r>
            <a:br>
              <a:rPr sz="600"/>
            </a:b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0 OCT 08    (Transportation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266"/>
          <p:cNvSpPr/>
          <p:nvPr/>
        </p:nvSpPr>
        <p:spPr>
          <a:xfrm>
            <a:off x="5065560" y="2881440"/>
            <a:ext cx="1578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RESTON, JAME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C-I]  {S3A}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05 DEC 0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310"/>
          <p:cNvSpPr/>
          <p:nvPr/>
        </p:nvSpPr>
        <p:spPr>
          <a:xfrm>
            <a:off x="5065560" y="2370240"/>
            <a:ext cx="1630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TENETTE, TRINI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C-I] {R3E}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6 JUL 08  (LEAD LOGISTICIAN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304"/>
          <p:cNvSpPr/>
          <p:nvPr/>
        </p:nvSpPr>
        <p:spPr>
          <a:xfrm>
            <a:off x="5065560" y="3905280"/>
            <a:ext cx="15400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WILLIAMS, DERIK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AR1}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 09 MAY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333"/>
          <p:cNvSpPr/>
          <p:nvPr/>
        </p:nvSpPr>
        <p:spPr>
          <a:xfrm>
            <a:off x="2960640" y="2709720"/>
            <a:ext cx="15908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LEONARD, CHARLE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J)  {DT1}                 IC: 04 JULY 09 (Rotational / BRAGG)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238"/>
          <p:cNvSpPr/>
          <p:nvPr/>
        </p:nvSpPr>
        <p:spPr>
          <a:xfrm>
            <a:off x="6854760" y="2625840"/>
            <a:ext cx="1579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USCH, CHRISTOPHER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DT1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2 MAY 09 (TS/SCI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241"/>
          <p:cNvSpPr/>
          <p:nvPr/>
        </p:nvSpPr>
        <p:spPr>
          <a:xfrm>
            <a:off x="2960640" y="2252520"/>
            <a:ext cx="1497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LUNKET, JOH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{S3A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3 DEC 08  (DEPUTY MANAGER)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311"/>
          <p:cNvSpPr/>
          <p:nvPr/>
        </p:nvSpPr>
        <p:spPr>
          <a:xfrm>
            <a:off x="2960640" y="3166920"/>
            <a:ext cx="1654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TAYLOR, ERNEST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 {S3A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6 DEC 09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02"/>
          <p:cNvSpPr/>
          <p:nvPr/>
        </p:nvSpPr>
        <p:spPr>
          <a:xfrm>
            <a:off x="5065560" y="4124160"/>
            <a:ext cx="15703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UTLER, WILLIAM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I] {AR1}                                       IC: 28 NOV 0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11"/>
          <p:cNvSpPr/>
          <p:nvPr/>
        </p:nvSpPr>
        <p:spPr>
          <a:xfrm>
            <a:off x="2960640" y="2938320"/>
            <a:ext cx="1654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TINDAL, BRANDO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J]  {X2D}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5 DEC 09 (Rotational  / BRAGG)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284"/>
          <p:cNvSpPr/>
          <p:nvPr/>
        </p:nvSpPr>
        <p:spPr>
          <a:xfrm>
            <a:off x="976320" y="4416480"/>
            <a:ext cx="1727280" cy="985680"/>
          </a:xfrm>
          <a:prstGeom prst="roundRect">
            <a:avLst>
              <a:gd name="adj" fmla="val 12796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mbedded Prophet Support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311"/>
          <p:cNvSpPr/>
          <p:nvPr/>
        </p:nvSpPr>
        <p:spPr>
          <a:xfrm>
            <a:off x="1041480" y="4842000"/>
            <a:ext cx="1654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ATTON, ROBERT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 {X2K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1 MAR 10 (Rotational  / Lewis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311"/>
          <p:cNvSpPr/>
          <p:nvPr/>
        </p:nvSpPr>
        <p:spPr>
          <a:xfrm>
            <a:off x="1049400" y="5110200"/>
            <a:ext cx="1654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KEETER, HAROLD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 {X2K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7 MAR 10   (Rotational  / Hood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311"/>
          <p:cNvSpPr/>
          <p:nvPr/>
        </p:nvSpPr>
        <p:spPr>
          <a:xfrm>
            <a:off x="6789600" y="5052960"/>
            <a:ext cx="1654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GIBSON, JACOB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J]  {X2K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 27 MAR 10 (Rotational  / Lewis)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311"/>
          <p:cNvSpPr/>
          <p:nvPr/>
        </p:nvSpPr>
        <p:spPr>
          <a:xfrm>
            <a:off x="6789600" y="5272200"/>
            <a:ext cx="1654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WEST, TIMOTHY 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[FST-J]  {X2K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ETA: TBD              (Rotational  / Hood)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284"/>
          <p:cNvSpPr/>
          <p:nvPr/>
        </p:nvSpPr>
        <p:spPr>
          <a:xfrm>
            <a:off x="6732720" y="4710240"/>
            <a:ext cx="1752480" cy="871560"/>
          </a:xfrm>
          <a:prstGeom prst="roundRect">
            <a:avLst>
              <a:gd name="adj" fmla="val 12796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mbedded Prophet Support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11"/>
          <p:cNvSpPr/>
          <p:nvPr/>
        </p:nvSpPr>
        <p:spPr>
          <a:xfrm>
            <a:off x="2903400" y="4081320"/>
            <a:ext cx="160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LAWRENCE, JERMEL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I]  {R3X}  (CSC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9 JAN 10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296"/>
          <p:cNvSpPr/>
          <p:nvPr/>
        </p:nvSpPr>
        <p:spPr>
          <a:xfrm>
            <a:off x="4956120" y="4562640"/>
            <a:ext cx="1716120" cy="8031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520" bIns="2520" anchor="t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re Find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314"/>
          <p:cNvSpPr/>
          <p:nvPr/>
        </p:nvSpPr>
        <p:spPr>
          <a:xfrm>
            <a:off x="5102280" y="4781520"/>
            <a:ext cx="1387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HARRIS, KERRY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L -SL]  {S3K}  (CSC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3 FEB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262"/>
          <p:cNvSpPr/>
          <p:nvPr/>
        </p:nvSpPr>
        <p:spPr>
          <a:xfrm>
            <a:off x="2960640" y="3395520"/>
            <a:ext cx="1602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HARRISON, MARK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FST-SL] {S3A}            </a:t>
            </a:r>
            <a:br>
              <a:rPr sz="600"/>
            </a:b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4 SEP 08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241"/>
          <p:cNvSpPr/>
          <p:nvPr/>
        </p:nvSpPr>
        <p:spPr>
          <a:xfrm>
            <a:off x="6846840" y="3567240"/>
            <a:ext cx="1497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BARRO, JEREMIAH 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 [ELT-J]   {X3G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ETA: TBD                              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35884B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41"/>
          <p:cNvSpPr/>
          <p:nvPr/>
        </p:nvSpPr>
        <p:spPr>
          <a:xfrm>
            <a:off x="6846840" y="3795840"/>
            <a:ext cx="1497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cc00ff"/>
                </a:solidFill>
                <a:uFillTx/>
                <a:latin typeface="Arial"/>
              </a:rPr>
              <a:t>AMATUCCI, JOHN</a:t>
            </a:r>
            <a:r>
              <a:rPr b="0" lang="en-US" sz="600" spc="-1" strike="noStrike">
                <a:solidFill>
                  <a:srgbClr val="cc00ff"/>
                </a:solidFill>
                <a:latin typeface="Arial"/>
              </a:rPr>
              <a:t>   [SC-J]     {X3G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cc00ff"/>
                </a:solidFill>
                <a:latin typeface="Arial"/>
              </a:rPr>
              <a:t>ETA: TBD                              </a:t>
            </a:r>
            <a:r>
              <a:rPr b="1" lang="en-US" sz="600" spc="-1" strike="noStrike">
                <a:solidFill>
                  <a:srgbClr val="cc00ff"/>
                </a:solidFill>
                <a:latin typeface="Arial"/>
              </a:rPr>
              <a:t>36284B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41"/>
          <p:cNvSpPr/>
          <p:nvPr/>
        </p:nvSpPr>
        <p:spPr>
          <a:xfrm>
            <a:off x="6846840" y="4024440"/>
            <a:ext cx="1497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ff0000"/>
                </a:solidFill>
                <a:uFillTx/>
                <a:latin typeface="Arial"/>
              </a:rPr>
              <a:t>VACANT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 [ELT-SL)  {X3G}   C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ETA: TBD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45"/>
          <p:cNvSpPr/>
          <p:nvPr/>
        </p:nvSpPr>
        <p:spPr>
          <a:xfrm>
            <a:off x="3072960" y="3852720"/>
            <a:ext cx="116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N–T MST Suppor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47"/>
          <p:cNvSpPr/>
          <p:nvPr/>
        </p:nvSpPr>
        <p:spPr>
          <a:xfrm>
            <a:off x="3006360" y="1967040"/>
            <a:ext cx="134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nics Technicia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ounded Rectangle 49"/>
          <p:cNvSpPr/>
          <p:nvPr/>
        </p:nvSpPr>
        <p:spPr>
          <a:xfrm>
            <a:off x="2789280" y="1967040"/>
            <a:ext cx="1714320" cy="1771560"/>
          </a:xfrm>
          <a:custGeom>
            <a:avLst/>
            <a:gdLst>
              <a:gd name="textAreaLeft" fmla="*/ 54720 w 1714320"/>
              <a:gd name="textAreaRight" fmla="*/ 1659600 w 1714320"/>
              <a:gd name="textAreaTop" fmla="*/ 54720 h 1771560"/>
              <a:gd name="textAreaBottom" fmla="*/ 1716840 h 1771560"/>
            </a:gdLst>
            <a:ahLst/>
            <a:rect l="textAreaLeft" t="textAreaTop" r="textAreaRight" b="textAreaBottom"/>
            <a:pathLst>
              <a:path w="21600" h="22321">
                <a:moveTo>
                  <a:pt x="2357" y="0"/>
                </a:moveTo>
                <a:arcTo wR="2357" hR="2357" stAng="16200000" swAng="-5400000"/>
                <a:lnTo>
                  <a:pt x="0" y="19964"/>
                </a:lnTo>
                <a:arcTo wR="2357" hR="2357" stAng="10800000" swAng="-5400000"/>
                <a:lnTo>
                  <a:pt x="19243" y="22321"/>
                </a:lnTo>
                <a:arcTo wR="2357" hR="2357" stAng="5400000" swAng="-5400000"/>
                <a:lnTo>
                  <a:pt x="21600" y="2357"/>
                </a:lnTo>
                <a:arcTo wR="2357" hR="2357" stAng="0" swAng="-5400000"/>
                <a:close/>
              </a:path>
            </a:pathLst>
          </a:cu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ounded Rectangle 50"/>
          <p:cNvSpPr/>
          <p:nvPr/>
        </p:nvSpPr>
        <p:spPr>
          <a:xfrm>
            <a:off x="2789280" y="3852720"/>
            <a:ext cx="1714320" cy="6289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41"/>
          <p:cNvSpPr/>
          <p:nvPr/>
        </p:nvSpPr>
        <p:spPr>
          <a:xfrm>
            <a:off x="6846840" y="3338640"/>
            <a:ext cx="1497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CRUZ, FELIX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  [ELT-I]   {X3G}  C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ETA: 17 APRIL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ounded Rectangle 48"/>
          <p:cNvSpPr/>
          <p:nvPr/>
        </p:nvSpPr>
        <p:spPr>
          <a:xfrm>
            <a:off x="6732720" y="3110040"/>
            <a:ext cx="1771560" cy="1485720"/>
          </a:xfrm>
          <a:prstGeom prst="roundRect">
            <a:avLst>
              <a:gd name="adj" fmla="val 21690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IZMO Suppor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_s2135"/>
          <p:cNvSpPr/>
          <p:nvPr/>
        </p:nvSpPr>
        <p:spPr>
          <a:xfrm>
            <a:off x="3641760" y="1347840"/>
            <a:ext cx="2081160" cy="258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480" rIns="24480" tIns="12240" bIns="12240" anchor="ctr">
            <a:no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700" spc="-1" strike="noStrike" u="sng">
                <a:solidFill>
                  <a:srgbClr val="008000"/>
                </a:solidFill>
                <a:uFillTx/>
                <a:latin typeface="Arial"/>
              </a:rPr>
              <a:t>ARINELLO, DENNIS</a:t>
            </a:r>
            <a:r>
              <a:rPr b="1" lang="en-US" sz="700" spc="-1" strike="noStrike">
                <a:solidFill>
                  <a:srgbClr val="008000"/>
                </a:solidFill>
                <a:latin typeface="Arial"/>
              </a:rPr>
              <a:t> [PMD-SL] {X2U}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700" spc="-1" strike="noStrike">
                <a:solidFill>
                  <a:srgbClr val="008000"/>
                </a:solidFill>
                <a:latin typeface="Arial"/>
              </a:rPr>
              <a:t>IC: 21 DEC 08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4"/>
          <p:cNvSpPr/>
          <p:nvPr/>
        </p:nvSpPr>
        <p:spPr>
          <a:xfrm>
            <a:off x="3075120" y="2938320"/>
            <a:ext cx="16095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GRAHAM, ERIC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J] {X2U} (CSC)                   IC: 04 APR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70"/>
          <p:cNvSpPr/>
          <p:nvPr/>
        </p:nvSpPr>
        <p:spPr>
          <a:xfrm>
            <a:off x="830160" y="2406600"/>
            <a:ext cx="1825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OTTRELL, WALTER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PMD-SL]  {X2N}  (OCCAM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 18 AUG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70"/>
          <p:cNvSpPr/>
          <p:nvPr/>
        </p:nvSpPr>
        <p:spPr>
          <a:xfrm>
            <a:off x="830160" y="3209760"/>
            <a:ext cx="1752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RUDDELL, CHRIS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PMD-SL]  {X2N} (OCCAM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6 OCT 09 (PROJECT LEAD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70"/>
          <p:cNvSpPr/>
          <p:nvPr/>
        </p:nvSpPr>
        <p:spPr>
          <a:xfrm>
            <a:off x="6286680" y="1419120"/>
            <a:ext cx="1679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WRIGHT, WILLIE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[PMD-SL] {X2U}  (CSC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IC: 9 AUG 08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0"/>
          <p:cNvSpPr/>
          <p:nvPr/>
        </p:nvSpPr>
        <p:spPr>
          <a:xfrm>
            <a:off x="789120" y="5052960"/>
            <a:ext cx="16002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UCKETT, CURTI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C-J] {X2U}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4 JUL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70"/>
          <p:cNvSpPr/>
          <p:nvPr/>
        </p:nvSpPr>
        <p:spPr>
          <a:xfrm>
            <a:off x="3075120" y="2709720"/>
            <a:ext cx="1633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ERNABE, DANIE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SL] {X2U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2 JUL 20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70"/>
          <p:cNvSpPr/>
          <p:nvPr/>
        </p:nvSpPr>
        <p:spPr>
          <a:xfrm>
            <a:off x="3075120" y="3395520"/>
            <a:ext cx="1606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UERTO, WILLIAM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ELT-J] {X2U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0 SEP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70"/>
          <p:cNvSpPr/>
          <p:nvPr/>
        </p:nvSpPr>
        <p:spPr>
          <a:xfrm>
            <a:off x="3075120" y="3166920"/>
            <a:ext cx="1568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NORRIS, BRIAN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J] {X2U}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3 AUG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63"/>
          <p:cNvSpPr/>
          <p:nvPr/>
        </p:nvSpPr>
        <p:spPr>
          <a:xfrm>
            <a:off x="3075120" y="2484360"/>
            <a:ext cx="16030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FEHRS, STEVE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SL] {X2U) (OCCAM)    IC: 04 MAY 09  (TECH LEAD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70"/>
          <p:cNvSpPr/>
          <p:nvPr/>
        </p:nvSpPr>
        <p:spPr>
          <a:xfrm>
            <a:off x="4911840" y="2484360"/>
            <a:ext cx="1619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LOWE, FREDERICK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J] {X2U}  (CSC) </a:t>
            </a:r>
            <a:br>
              <a:rPr sz="600"/>
            </a:b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1 DEC 08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70"/>
          <p:cNvSpPr/>
          <p:nvPr/>
        </p:nvSpPr>
        <p:spPr>
          <a:xfrm>
            <a:off x="3075120" y="3624120"/>
            <a:ext cx="1643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IYAZAKI, LAWRENCE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[ELT-I] {X2U) (CSC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22 SEP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70"/>
          <p:cNvSpPr/>
          <p:nvPr/>
        </p:nvSpPr>
        <p:spPr>
          <a:xfrm>
            <a:off x="830160" y="2954160"/>
            <a:ext cx="172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UHAMMAD, KEITH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L-SL]  { X2N} (CSC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1 NOV 08 (LEAD LOGISTICIAN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70"/>
          <p:cNvSpPr/>
          <p:nvPr/>
        </p:nvSpPr>
        <p:spPr>
          <a:xfrm>
            <a:off x="789120" y="5853240"/>
            <a:ext cx="18986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KESTERSON, JONATHA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SL] {X2U}                         IC:  31 JAN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70"/>
          <p:cNvSpPr/>
          <p:nvPr/>
        </p:nvSpPr>
        <p:spPr>
          <a:xfrm>
            <a:off x="4903920" y="2709720"/>
            <a:ext cx="1619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WATKINS, JONATHA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ELT-I] {X2U} (CSC) </a:t>
            </a:r>
            <a:br>
              <a:rPr sz="600"/>
            </a:b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30 APR 09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70"/>
          <p:cNvSpPr/>
          <p:nvPr/>
        </p:nvSpPr>
        <p:spPr>
          <a:xfrm>
            <a:off x="789120" y="5272200"/>
            <a:ext cx="1679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CGUIRE, DIO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SC-I] {X2U}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2 DEC 09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70"/>
          <p:cNvSpPr/>
          <p:nvPr/>
        </p:nvSpPr>
        <p:spPr>
          <a:xfrm>
            <a:off x="830160" y="2693880"/>
            <a:ext cx="18986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FLEMING, DAVID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[PMD-SL]  {X2N}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 09 DEC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62"/>
          <p:cNvSpPr/>
          <p:nvPr/>
        </p:nvSpPr>
        <p:spPr>
          <a:xfrm>
            <a:off x="4903920" y="2938320"/>
            <a:ext cx="16556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DIAZ, ALFREDO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[ELT-J]   {X2U}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2 JAN 10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70"/>
          <p:cNvSpPr/>
          <p:nvPr/>
        </p:nvSpPr>
        <p:spPr>
          <a:xfrm>
            <a:off x="4903920" y="3166920"/>
            <a:ext cx="17636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NORMAN, RICHARD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 [ELT-SL]   {X2U}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ETA: 27 MAR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0"/>
          <p:cNvSpPr/>
          <p:nvPr/>
        </p:nvSpPr>
        <p:spPr>
          <a:xfrm>
            <a:off x="4903920" y="3395520"/>
            <a:ext cx="1692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McMURRAY, BRAD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 [ELT-J]  {X2U}  </a:t>
            </a:r>
            <a:r>
              <a:rPr b="1" lang="en-US" sz="600" spc="-1" strike="noStrike">
                <a:solidFill>
                  <a:srgbClr val="3c3cb6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ETA: 27 MAR 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29"/>
          <p:cNvSpPr/>
          <p:nvPr/>
        </p:nvSpPr>
        <p:spPr>
          <a:xfrm>
            <a:off x="703440" y="2138400"/>
            <a:ext cx="20160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TA Suppor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29"/>
          <p:cNvSpPr/>
          <p:nvPr/>
        </p:nvSpPr>
        <p:spPr>
          <a:xfrm>
            <a:off x="641520" y="5630760"/>
            <a:ext cx="2087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F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gine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9"/>
          <p:cNvSpPr/>
          <p:nvPr/>
        </p:nvSpPr>
        <p:spPr>
          <a:xfrm>
            <a:off x="641520" y="4827600"/>
            <a:ext cx="2087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gistics Suppor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29"/>
          <p:cNvSpPr/>
          <p:nvPr/>
        </p:nvSpPr>
        <p:spPr>
          <a:xfrm>
            <a:off x="6107040" y="1238400"/>
            <a:ext cx="19065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puty Program Manag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29"/>
          <p:cNvSpPr/>
          <p:nvPr/>
        </p:nvSpPr>
        <p:spPr>
          <a:xfrm>
            <a:off x="3002040" y="2305080"/>
            <a:ext cx="37447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visors / Traine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29"/>
          <p:cNvSpPr/>
          <p:nvPr/>
        </p:nvSpPr>
        <p:spPr>
          <a:xfrm>
            <a:off x="3919680" y="1201680"/>
            <a:ext cx="15159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am Manag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29"/>
          <p:cNvSpPr/>
          <p:nvPr/>
        </p:nvSpPr>
        <p:spPr>
          <a:xfrm>
            <a:off x="2911320" y="2114640"/>
            <a:ext cx="61563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A Suppor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traight Connector 123"/>
          <p:cNvSpPr/>
          <p:nvPr/>
        </p:nvSpPr>
        <p:spPr>
          <a:xfrm>
            <a:off x="4791240" y="2521080"/>
            <a:ext cx="0" cy="3286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32"/>
          <p:cNvSpPr/>
          <p:nvPr/>
        </p:nvSpPr>
        <p:spPr>
          <a:xfrm>
            <a:off x="4662360" y="1743120"/>
            <a:ext cx="0" cy="333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0" name="Elbow Connector 48"/>
          <p:cNvCxnSpPr/>
          <p:nvPr/>
        </p:nvCxnSpPr>
        <p:spPr>
          <a:xfrm flipV="1" rot="10800000">
            <a:off x="1637640" y="1928520"/>
            <a:ext cx="3024720" cy="148320"/>
          </a:xfrm>
          <a:prstGeom prst="bentConnector3">
            <a:avLst>
              <a:gd name="adj1" fmla="val 100071"/>
            </a:avLst>
          </a:prstGeom>
          <a:ln w="3240">
            <a:solidFill>
              <a:srgbClr val="000000"/>
            </a:solidFill>
            <a:round/>
          </a:ln>
        </p:spPr>
      </p:cxnSp>
      <p:sp>
        <p:nvSpPr>
          <p:cNvPr id="941" name="Straight Connector 57"/>
          <p:cNvSpPr/>
          <p:nvPr/>
        </p:nvSpPr>
        <p:spPr>
          <a:xfrm flipH="1">
            <a:off x="5796000" y="1504800"/>
            <a:ext cx="2570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4"/>
          <p:cNvSpPr/>
          <p:nvPr/>
        </p:nvSpPr>
        <p:spPr>
          <a:xfrm>
            <a:off x="4903920" y="3624120"/>
            <a:ext cx="1726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MORGAN ,GERALD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 [ELT-SL  {X2U}  (OCCAM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ETA:  04 APR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69"/>
          <p:cNvSpPr/>
          <p:nvPr/>
        </p:nvSpPr>
        <p:spPr>
          <a:xfrm>
            <a:off x="6732720" y="2595600"/>
            <a:ext cx="0" cy="3286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reeform 4"/>
          <p:cNvSpPr/>
          <p:nvPr/>
        </p:nvSpPr>
        <p:spPr>
          <a:xfrm>
            <a:off x="5859360" y="2549520"/>
            <a:ext cx="112680" cy="108000"/>
          </a:xfrm>
          <a:custGeom>
            <a:avLst/>
            <a:gdLst>
              <a:gd name="textAreaLeft" fmla="*/ 0 w 112680"/>
              <a:gd name="textAreaRight" fmla="*/ 113040 w 1126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26" h="1">
                <a:moveTo>
                  <a:pt x="0" y="0"/>
                </a:moveTo>
                <a:lnTo>
                  <a:pt x="52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2287080" y="168120"/>
            <a:ext cx="46580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dated: 04/02/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836800" y="1305000"/>
            <a:ext cx="3694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trick Lusk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L) Program Manager – Executive Scientist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1000080" y="890640"/>
            <a:ext cx="7386840" cy="21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Tech – Chantilly V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6673680" y="2184480"/>
            <a:ext cx="2616480" cy="426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arl Watso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AG) Deputy Program Manager – Senior Lea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SC Oper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210960" y="2163600"/>
            <a:ext cx="2430720" cy="411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Roy Bel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AM) Program Manager – Senior Lea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gistics / Oper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564240" y="2797200"/>
          <a:ext cx="4386240" cy="563400"/>
        </p:xfrm>
        <a:graphic>
          <a:graphicData uri="http://schemas.openxmlformats.org/drawingml/2006/table">
            <a:tbl>
              <a:tblPr/>
              <a:tblGrid>
                <a:gridCol w="179640"/>
                <a:gridCol w="649080"/>
                <a:gridCol w="557280"/>
                <a:gridCol w="306360"/>
                <a:gridCol w="2693880"/>
              </a:tblGrid>
              <a:tr h="18900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var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Manager -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’Nei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Manager – 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ess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oth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Specialist – 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220680" y="2886120"/>
          <a:ext cx="3895560" cy="2309760"/>
        </p:xfrm>
        <a:graphic>
          <a:graphicData uri="http://schemas.openxmlformats.org/drawingml/2006/table">
            <a:tbl>
              <a:tblPr/>
              <a:tblGrid>
                <a:gridCol w="158760"/>
                <a:gridCol w="576360"/>
                <a:gridCol w="380880"/>
                <a:gridCol w="270000"/>
                <a:gridCol w="2509560"/>
              </a:tblGrid>
              <a:tr h="20016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kin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r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gmt.  Specialist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y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i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chan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t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oll Jr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w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erty Mgmt. Specialist - 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tzgeral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e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erty Mgmt. Specialist - 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zgerald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y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let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Manager 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co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flic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or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. Analyst (Architecture)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h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c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a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gmt. Specialist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9" name="Line 99"/>
          <p:cNvSpPr/>
          <p:nvPr/>
        </p:nvSpPr>
        <p:spPr>
          <a:xfrm>
            <a:off x="6230880" y="1897200"/>
            <a:ext cx="461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00"/>
          <p:cNvSpPr/>
          <p:nvPr/>
        </p:nvSpPr>
        <p:spPr>
          <a:xfrm>
            <a:off x="6230880" y="1976400"/>
            <a:ext cx="461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01"/>
          <p:cNvSpPr/>
          <p:nvPr/>
        </p:nvSpPr>
        <p:spPr>
          <a:xfrm>
            <a:off x="4770360" y="1581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03"/>
          <p:cNvSpPr/>
          <p:nvPr/>
        </p:nvSpPr>
        <p:spPr>
          <a:xfrm>
            <a:off x="3378240" y="2184480"/>
            <a:ext cx="2616120" cy="426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Sandra Casson-Dickerso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AG) Program Manager, Deputy – Senior Lea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3216240" y="2776680"/>
          <a:ext cx="3471840" cy="1811160"/>
        </p:xfrm>
        <a:graphic>
          <a:graphicData uri="http://schemas.openxmlformats.org/drawingml/2006/table">
            <a:tbl>
              <a:tblPr/>
              <a:tblGrid>
                <a:gridCol w="142920"/>
                <a:gridCol w="855720"/>
                <a:gridCol w="511200"/>
                <a:gridCol w="209520"/>
                <a:gridCol w="1752480"/>
              </a:tblGrid>
              <a:tr h="1774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h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d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you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y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mt. Assistant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hn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olon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Analyst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w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lm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Analyst –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k Jr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lber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Analyst – 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t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- 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0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engnopakunsr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– 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0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u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ynnet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Analyst - 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nk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isabe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mt. Assistant - 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igh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n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porary Hir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4" name="Freeform 177"/>
          <p:cNvSpPr/>
          <p:nvPr/>
        </p:nvSpPr>
        <p:spPr>
          <a:xfrm flipV="1">
            <a:off x="6481800" y="1417680"/>
            <a:ext cx="654120" cy="108000"/>
          </a:xfrm>
          <a:custGeom>
            <a:avLst/>
            <a:gdLst>
              <a:gd name="textAreaLeft" fmla="*/ 0 w 654120"/>
              <a:gd name="textAreaRight" fmla="*/ 654480 w 654120"/>
              <a:gd name="textAreaTop" fmla="*/ 360 h 108000"/>
              <a:gd name="textAreaBottom" fmla="*/ 108720 h 108000"/>
            </a:gdLst>
            <a:ahLst/>
            <a:rect l="textAreaLeft" t="textAreaTop" r="textAreaRight" b="textAreaBottom"/>
            <a:pathLst>
              <a:path w="564" h="1">
                <a:moveTo>
                  <a:pt x="0" y="0"/>
                </a:moveTo>
                <a:lnTo>
                  <a:pt x="564" y="0"/>
                </a:ln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sp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78"/>
          <p:cNvSpPr/>
          <p:nvPr/>
        </p:nvSpPr>
        <p:spPr>
          <a:xfrm>
            <a:off x="7145280" y="1393920"/>
            <a:ext cx="164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rie Spates – Mgmt Specialist - J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6058080" y="4417920"/>
          <a:ext cx="3635280" cy="542880"/>
        </p:xfrm>
        <a:graphic>
          <a:graphicData uri="http://schemas.openxmlformats.org/drawingml/2006/table">
            <a:tbl>
              <a:tblPr/>
              <a:tblGrid>
                <a:gridCol w="145800"/>
                <a:gridCol w="382680"/>
                <a:gridCol w="385920"/>
                <a:gridCol w="298440"/>
                <a:gridCol w="2422440"/>
              </a:tblGrid>
              <a:tr h="1904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Text Box 209"/>
          <p:cNvSpPr/>
          <p:nvPr/>
        </p:nvSpPr>
        <p:spPr>
          <a:xfrm>
            <a:off x="6616800" y="3735360"/>
            <a:ext cx="2612880" cy="426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ncoming Personne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15"/>
          <p:cNvSpPr/>
          <p:nvPr/>
        </p:nvSpPr>
        <p:spPr>
          <a:xfrm>
            <a:off x="7475400" y="2138400"/>
            <a:ext cx="13147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3c3cb6"/>
                </a:solidFill>
                <a:uFillTx/>
                <a:latin typeface="Arial"/>
              </a:rPr>
              <a:t>RICHBURG, ANTHONY</a:t>
            </a:r>
            <a:r>
              <a:rPr b="0" lang="en-US" sz="600" spc="-1" strike="noStrike">
                <a:solidFill>
                  <a:srgbClr val="3c3cb6"/>
                </a:solidFill>
                <a:latin typeface="Arial"/>
              </a:rPr>
              <a:t> (RAPISCAN)   ETA: TBD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44"/>
          <p:cNvSpPr/>
          <p:nvPr/>
        </p:nvSpPr>
        <p:spPr>
          <a:xfrm>
            <a:off x="960480" y="2176560"/>
            <a:ext cx="11430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ff0000"/>
                </a:solidFill>
                <a:uFillTx/>
                <a:latin typeface="Arial"/>
              </a:rPr>
              <a:t>VACANT 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   {S3T}                                    ETA: TBD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45"/>
          <p:cNvSpPr/>
          <p:nvPr/>
        </p:nvSpPr>
        <p:spPr>
          <a:xfrm>
            <a:off x="960480" y="1957320"/>
            <a:ext cx="11192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ESPIRITU, CHRISTIAN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{S3T}                                       IC:  24 SEP 07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46"/>
          <p:cNvSpPr/>
          <p:nvPr/>
        </p:nvSpPr>
        <p:spPr>
          <a:xfrm>
            <a:off x="960480" y="1738440"/>
            <a:ext cx="1278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TIVEY, DANIEL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{S3T}                                       IC: 30 APR 06 (THEATER LEAD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47"/>
          <p:cNvSpPr/>
          <p:nvPr/>
        </p:nvSpPr>
        <p:spPr>
          <a:xfrm>
            <a:off x="942840" y="3247920"/>
            <a:ext cx="13654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" rIns="504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RINEY, DAMON  {T3Q}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                                    IC: 29 DEC 06 (OEF LEAD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30"/>
          <p:cNvSpPr/>
          <p:nvPr/>
        </p:nvSpPr>
        <p:spPr>
          <a:xfrm>
            <a:off x="7496280" y="4890960"/>
            <a:ext cx="14014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ANEY, RYAN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(RAPISCAN)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                      IC: 14 FEB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5"/>
          <p:cNvSpPr/>
          <p:nvPr/>
        </p:nvSpPr>
        <p:spPr>
          <a:xfrm>
            <a:off x="3413160" y="3638520"/>
            <a:ext cx="10364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CASSON, STEVE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S3P}                         IC: 5 APR 04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57"/>
          <p:cNvSpPr/>
          <p:nvPr/>
        </p:nvSpPr>
        <p:spPr>
          <a:xfrm>
            <a:off x="5132520" y="3281400"/>
            <a:ext cx="9223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’SILVA, MARK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{S3P}                         IC: 14 FEB 07  vac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60"/>
          <p:cNvSpPr/>
          <p:nvPr/>
        </p:nvSpPr>
        <p:spPr>
          <a:xfrm>
            <a:off x="5127480" y="2610000"/>
            <a:ext cx="887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OLONEY, PAU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BV7}                          IC: 26 MAY 0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61"/>
          <p:cNvSpPr/>
          <p:nvPr/>
        </p:nvSpPr>
        <p:spPr>
          <a:xfrm>
            <a:off x="3417840" y="3852720"/>
            <a:ext cx="934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ROUD, MICHAE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S3P}                          IC: 16 JUL 05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66"/>
          <p:cNvSpPr/>
          <p:nvPr/>
        </p:nvSpPr>
        <p:spPr>
          <a:xfrm>
            <a:off x="4275000" y="1509840"/>
            <a:ext cx="13874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LAULER, THOMAS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 {S3P}                     IC: 27 JAN 07   (THEATER MANAGER)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52"/>
          <p:cNvSpPr/>
          <p:nvPr/>
        </p:nvSpPr>
        <p:spPr>
          <a:xfrm>
            <a:off x="3475080" y="5510160"/>
            <a:ext cx="1163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UDNICKI, MICHAEL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{AF1}                             IC:  27 FEB 0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68"/>
          <p:cNvSpPr/>
          <p:nvPr/>
        </p:nvSpPr>
        <p:spPr>
          <a:xfrm>
            <a:off x="5127480" y="2038320"/>
            <a:ext cx="10652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ARMSTRONG, DAVID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{BV7}           IC: 21 FEB 06   vac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8"/>
          <p:cNvSpPr/>
          <p:nvPr/>
        </p:nvSpPr>
        <p:spPr>
          <a:xfrm>
            <a:off x="5127480" y="2324160"/>
            <a:ext cx="9684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DOAK, ROGER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{BV7}                        IC: 12 DEC 0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68"/>
          <p:cNvSpPr/>
          <p:nvPr/>
        </p:nvSpPr>
        <p:spPr>
          <a:xfrm>
            <a:off x="3413160" y="3181320"/>
            <a:ext cx="12049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CARTHY, FRAZIER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{S3P}                       IC: 3 MAR 08   vac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68"/>
          <p:cNvSpPr/>
          <p:nvPr/>
        </p:nvSpPr>
        <p:spPr>
          <a:xfrm>
            <a:off x="3413160" y="3409920"/>
            <a:ext cx="10270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ILLION, STEPHEN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{S3P}                       IC: 5 APR 04  vac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68"/>
          <p:cNvSpPr/>
          <p:nvPr/>
        </p:nvSpPr>
        <p:spPr>
          <a:xfrm>
            <a:off x="5132520" y="6310440"/>
            <a:ext cx="8776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VILLA, ERIK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S3P}                      IC: 25 FEB 09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8"/>
          <p:cNvSpPr/>
          <p:nvPr/>
        </p:nvSpPr>
        <p:spPr>
          <a:xfrm>
            <a:off x="5132520" y="5396040"/>
            <a:ext cx="1163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LUSARDI, JOSEPH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AF1}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                    IC: 14 JUL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35"/>
          <p:cNvSpPr/>
          <p:nvPr/>
        </p:nvSpPr>
        <p:spPr>
          <a:xfrm>
            <a:off x="846000" y="3452760"/>
            <a:ext cx="1278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TESSIER, BRIAN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{T3Q}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04OCT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36"/>
          <p:cNvSpPr/>
          <p:nvPr/>
        </p:nvSpPr>
        <p:spPr>
          <a:xfrm>
            <a:off x="4960800" y="5281560"/>
            <a:ext cx="0" cy="1486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61"/>
          <p:cNvSpPr/>
          <p:nvPr/>
        </p:nvSpPr>
        <p:spPr>
          <a:xfrm>
            <a:off x="3417840" y="4108320"/>
            <a:ext cx="9349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PARKS, GARY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S3P}                          IC: 04 OCT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52"/>
          <p:cNvSpPr/>
          <p:nvPr/>
        </p:nvSpPr>
        <p:spPr>
          <a:xfrm>
            <a:off x="3475080" y="5281560"/>
            <a:ext cx="1163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ARANEK, BRIAN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AF1}              </a:t>
            </a:r>
            <a:r>
              <a:rPr b="1" lang="en-US" sz="6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IC: 14 OCT 09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211"/>
          <p:cNvSpPr/>
          <p:nvPr/>
        </p:nvSpPr>
        <p:spPr>
          <a:xfrm>
            <a:off x="7475400" y="3852720"/>
            <a:ext cx="15400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ELCHER, DAVID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(RAPISCAN)               IC: 01 DEC 0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68"/>
          <p:cNvSpPr/>
          <p:nvPr/>
        </p:nvSpPr>
        <p:spPr>
          <a:xfrm>
            <a:off x="3475080" y="6481800"/>
            <a:ext cx="1163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REINHOLD, BROOK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X2J}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                    IC:  31 OCT 0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68"/>
          <p:cNvSpPr/>
          <p:nvPr/>
        </p:nvSpPr>
        <p:spPr>
          <a:xfrm>
            <a:off x="3475080" y="6253200"/>
            <a:ext cx="11635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GONZALES, MICHAEL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(X2J)                     IC: 07 NOV 09  (FOB TODD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9"/>
          <p:cNvSpPr/>
          <p:nvPr/>
        </p:nvSpPr>
        <p:spPr>
          <a:xfrm>
            <a:off x="7496280" y="5110200"/>
            <a:ext cx="1460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KAMMERER, STEPHE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(RAPISCAN)                                      IC:28 MAR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211"/>
          <p:cNvSpPr/>
          <p:nvPr/>
        </p:nvSpPr>
        <p:spPr>
          <a:xfrm>
            <a:off x="7475400" y="4071960"/>
            <a:ext cx="14241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TEPHENSON, CHARLES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(RAPISCAN) IC: 02 JAN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211"/>
          <p:cNvSpPr/>
          <p:nvPr/>
        </p:nvSpPr>
        <p:spPr>
          <a:xfrm>
            <a:off x="7475400" y="2995560"/>
            <a:ext cx="14241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WANSON, ROBERT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(RAPISCAN)          IC: 02 JAN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211"/>
          <p:cNvSpPr/>
          <p:nvPr/>
        </p:nvSpPr>
        <p:spPr>
          <a:xfrm>
            <a:off x="7475400" y="1681200"/>
            <a:ext cx="14241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CMILLAN,  ANDREW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(RAPISCAN)                  IC: 02 JAN 10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52"/>
          <p:cNvSpPr/>
          <p:nvPr/>
        </p:nvSpPr>
        <p:spPr>
          <a:xfrm>
            <a:off x="3417840" y="2023920"/>
            <a:ext cx="11635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SCHEEL, BRUCE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{BB8}            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C: 12 DEC 09     vacation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51"/>
          <p:cNvSpPr/>
          <p:nvPr/>
        </p:nvSpPr>
        <p:spPr>
          <a:xfrm>
            <a:off x="5132520" y="5614920"/>
            <a:ext cx="9856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SIEFERT, WILLIAM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{AF1} IC: 20 JAN 10   vac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68"/>
          <p:cNvSpPr/>
          <p:nvPr/>
        </p:nvSpPr>
        <p:spPr>
          <a:xfrm>
            <a:off x="5132520" y="6081840"/>
            <a:ext cx="10364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SANCHEZ, JOSEPH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S3P}                       IC: 15 JUN 0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ounded Rectangle 53"/>
          <p:cNvSpPr/>
          <p:nvPr/>
        </p:nvSpPr>
        <p:spPr>
          <a:xfrm>
            <a:off x="7304040" y="2023920"/>
            <a:ext cx="1771560" cy="628920"/>
          </a:xfrm>
          <a:prstGeom prst="roundRect">
            <a:avLst>
              <a:gd name="adj" fmla="val 30273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5"/>
          <p:cNvSpPr/>
          <p:nvPr/>
        </p:nvSpPr>
        <p:spPr>
          <a:xfrm>
            <a:off x="3417840" y="2252520"/>
            <a:ext cx="1163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HICKMAN, CHRIS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BB8}                           IC: 20 JUN 05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68"/>
          <p:cNvSpPr/>
          <p:nvPr/>
        </p:nvSpPr>
        <p:spPr>
          <a:xfrm>
            <a:off x="5127480" y="4267080"/>
            <a:ext cx="11638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HARDESTY, CHARLES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{X2J}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                    IC: 19 FEB 20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68"/>
          <p:cNvSpPr/>
          <p:nvPr/>
        </p:nvSpPr>
        <p:spPr>
          <a:xfrm>
            <a:off x="5132520" y="2938320"/>
            <a:ext cx="10364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YARE, DAVID   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{S3P}                       IC: 24 FEB 20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68"/>
          <p:cNvSpPr/>
          <p:nvPr/>
        </p:nvSpPr>
        <p:spPr>
          <a:xfrm>
            <a:off x="5132520" y="6996240"/>
            <a:ext cx="11635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BOOKER, DEAN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{X2J}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               IC: 19 FEB 2010   vac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ounded Rectangle 55"/>
          <p:cNvSpPr/>
          <p:nvPr/>
        </p:nvSpPr>
        <p:spPr>
          <a:xfrm>
            <a:off x="3360600" y="6081840"/>
            <a:ext cx="1486080" cy="102852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68"/>
          <p:cNvSpPr/>
          <p:nvPr/>
        </p:nvSpPr>
        <p:spPr>
          <a:xfrm>
            <a:off x="3475080" y="6710400"/>
            <a:ext cx="1163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BALLREICH, ERIK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X2J}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                    IC: 30 MAR 20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68"/>
          <p:cNvSpPr/>
          <p:nvPr/>
        </p:nvSpPr>
        <p:spPr>
          <a:xfrm>
            <a:off x="5132520" y="5853240"/>
            <a:ext cx="11635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MURPHY, BRUCE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{AF1}</a:t>
            </a: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                     IC: 28 MAR 1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6"/>
          <p:cNvSpPr/>
          <p:nvPr/>
        </p:nvSpPr>
        <p:spPr>
          <a:xfrm>
            <a:off x="5132520" y="6767640"/>
            <a:ext cx="9684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8000"/>
                </a:solidFill>
                <a:uFillTx/>
                <a:latin typeface="Arial"/>
              </a:rPr>
              <a:t>DOHERTY, SEAN</a:t>
            </a:r>
            <a:r>
              <a:rPr b="0" lang="en-US" sz="600" spc="-1" strike="noStrike">
                <a:solidFill>
                  <a:srgbClr val="008000"/>
                </a:solidFill>
                <a:latin typeface="Arial"/>
              </a:rPr>
              <a:t>   {X2J}              IC: 30 DEC 06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19"/>
          <p:cNvSpPr/>
          <p:nvPr/>
        </p:nvSpPr>
        <p:spPr>
          <a:xfrm>
            <a:off x="160200" y="515880"/>
            <a:ext cx="1828800" cy="1511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TRACTING OFFIC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lson Dunc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acting Officer for S3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tegic Services Sourcing, CCCE-CM-T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COM Contracting Center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A, U.S. Army Contracting Command Communications-Electronics Comman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: (732) 532-4148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N: (312) 992-4148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elson.Duncan@conus.army.mi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20"/>
          <p:cNvSpPr/>
          <p:nvPr/>
        </p:nvSpPr>
        <p:spPr>
          <a:xfrm>
            <a:off x="7189920" y="600480"/>
            <a:ext cx="2057400" cy="10245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ctr" anchorCtr="1">
            <a:sp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GOVT  COR - Point Of Contac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bert  A. Poppel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te Manager - CECOM ESSC-SW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p Arifj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318-430-4621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ll:  011-965-967-4587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800" spc="-1" strike="noStrike" u="sng">
                <a:solidFill>
                  <a:srgbClr val="3c8c93"/>
                </a:solidFill>
                <a:uFillTx/>
                <a:latin typeface="Arial"/>
              </a:rPr>
              <a:t>CECOMLCMCESSC@k</a:t>
            </a:r>
            <a:r>
              <a:rPr b="1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wait.swa.army.mi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27"/>
          <p:cNvSpPr/>
          <p:nvPr/>
        </p:nvSpPr>
        <p:spPr>
          <a:xfrm>
            <a:off x="4046400" y="185256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ul J Gregor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4ISR RSC SWA Directo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28"/>
          <p:cNvSpPr/>
          <p:nvPr/>
        </p:nvSpPr>
        <p:spPr>
          <a:xfrm>
            <a:off x="-41400" y="2552760"/>
            <a:ext cx="13874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gram, Afghanista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gram Airfield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ODAA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W91M2D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I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 W4GV4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anTech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avid Estes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te Manage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2-987-5130 Ext 381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2-987-5130 Ext 396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732-427-5130 Ext 381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8-431-7060( Cell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011-937-9984-3158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avid.Estes@ManTech.com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CSC Point of Contr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dre Kirk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LNO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8-481-844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VoIP: 318-431-5844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OSHAN: 079-746-122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3c8c93"/>
                </a:solidFill>
                <a:uFillTx/>
                <a:latin typeface="Arial"/>
              </a:rPr>
              <a:t>andre.l.kirk@afghan.swa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r. Logistician: Bruce Stins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GOVT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Zola Steel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ESSC-Manager – OE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2-987-5130 ext 388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732-427-5130 Ext 388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4597a0"/>
                </a:solidFill>
                <a:latin typeface="Arial"/>
              </a:rPr>
              <a:t> </a:t>
            </a:r>
            <a:r>
              <a:rPr b="1" lang="en-US" sz="600" spc="-1" strike="noStrike" u="sng">
                <a:solidFill>
                  <a:srgbClr val="4597a0"/>
                </a:solidFill>
                <a:uFillTx/>
                <a:latin typeface="Arial"/>
              </a:rPr>
              <a:t>Zo</a:t>
            </a: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a</a:t>
            </a: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Steele@mmcs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[ NAME ]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anTech RSC (CECOM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agram Air Bas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09354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HL &amp; FEDEX  SHIPPING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C4ISR MANTECH R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MC Site, Bldg. 403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ttn: David Estes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agram Airbase, Afghanista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, AE 09354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29"/>
          <p:cNvSpPr/>
          <p:nvPr/>
        </p:nvSpPr>
        <p:spPr>
          <a:xfrm>
            <a:off x="2655720" y="2516040"/>
            <a:ext cx="16113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mp Arifja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ODDA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W9144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I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W4GV0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anTech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aul J. Gregory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WA Regional Support Centers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8-430-462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 011-965-389-462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ll: 011-965-988-468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aul.J.Gregory@</a:t>
            </a: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kuwait.swa. army.mil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CSC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John Dennis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WA Regional Support Centers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puty Directo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8-430-41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011-965-9988-41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3c8c93"/>
                </a:solidFill>
                <a:uFillTx/>
                <a:latin typeface="Arial"/>
              </a:rPr>
              <a:t>john.dennis@kuwait.swa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ogistics Manager: Jose Marrero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GOVT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obert Poppel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te Manager – CECOM ESSC-SWA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: 318-430-462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ll:  011-965-967-4587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3c8c93"/>
                </a:solidFill>
                <a:uFillTx/>
                <a:latin typeface="Arial"/>
              </a:rPr>
              <a:t>CECOMLCMCESSC@                     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1" lang="en-US" sz="600" spc="-1" strike="noStrike" u="sng">
                <a:solidFill>
                  <a:srgbClr val="3c8c93"/>
                </a:solidFill>
                <a:uFillTx/>
                <a:latin typeface="Arial"/>
              </a:rPr>
              <a:t>k</a:t>
            </a: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uwait.swa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[ NAME ]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anTech Bldg 75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mp Arifjan, Kuwai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0936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HL &amp; FEDEX  SHIPPING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ESSC SWA (ManTech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ldg 75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mp Arifjan, Kuwai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0936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30"/>
          <p:cNvSpPr/>
          <p:nvPr/>
        </p:nvSpPr>
        <p:spPr>
          <a:xfrm>
            <a:off x="1346040" y="2516040"/>
            <a:ext cx="14544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Kandahar, Afghanista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Kandahar Airfield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ODAA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W91M2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I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 W4GV4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anTech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andy Caswel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te Manage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2-987-5130 Ext 801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011-937-0660-2065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andy.Caswell@us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CSC Point of Contr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ndre Kirk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LNO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8-481-844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VoIP: 318-431-5844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OSHAN: 079-746-122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3c8c93"/>
                </a:solidFill>
                <a:uFillTx/>
                <a:latin typeface="Arial"/>
              </a:rPr>
              <a:t>andre.l.kirk@afghan.swa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r. Logistician: Trini Tenett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GOVT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iff Canty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ESSC-Manager - OE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2-987-5130 ext 805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732-427-5130 Ext 388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600" spc="-1" strike="noStrike" u="sng">
                <a:solidFill>
                  <a:srgbClr val="4597a0"/>
                </a:solidFill>
                <a:uFillTx/>
                <a:latin typeface="Arial"/>
              </a:rPr>
              <a:t>Clifford.Canty</a:t>
            </a: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@mmcs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[ NAME ]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anTech RSC (CECOM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Kandahar Air Field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09355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HL &amp; FEDEX  SHIPPING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C4ISR MANTECH R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MC South Park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ttn: Randy Caswel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Kandahar AF, Afghanista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, AE 09355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31"/>
          <p:cNvSpPr/>
          <p:nvPr/>
        </p:nvSpPr>
        <p:spPr>
          <a:xfrm>
            <a:off x="4168800" y="2529000"/>
            <a:ext cx="14065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ghdad, Iraq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mp Liber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ODAA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W91M2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I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W4GV35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anTech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simir Stryjewski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te Manage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2-987-5130 Ext 407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 732-427-5130   Ext 407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 318-485-375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VOIP 302-243-6697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asimir.Stryjewski@us.army.mil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CSC Point of Contr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ichard Bradshaw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LNO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DSN: 312-987-5130 Opt 1, 64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Comm: 732-427-5130 Opt 1, 64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richard.n.bradshaw@mmcs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r. Logistician:Peter Massenburg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GOVT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ary Dickey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ESSC-Manager –OI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12-987-5130 X405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732-427-5130 X405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4597a0"/>
                </a:solidFill>
                <a:uFillTx/>
                <a:latin typeface="Arial"/>
              </a:rPr>
              <a:t>Gary.D</a:t>
            </a: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ckey@mmcs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[ NAME ]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/ MANTECH R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MC-LSE (CECOM/RSC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UNIT# 42115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- AE 0934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HL &amp; FEDEX  SHIPPING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anTech / CECOM R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uilding 14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mp Liberty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aghdad, Iraq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0934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2"/>
          <p:cNvSpPr/>
          <p:nvPr/>
        </p:nvSpPr>
        <p:spPr>
          <a:xfrm>
            <a:off x="5545080" y="2530440"/>
            <a:ext cx="144324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lad, Iraq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mp Anaconda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ODDA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W91M2C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:             W4GV40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anTech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ene Rains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te Manager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 312-987-5130 ext. 4451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732-427-5130 X445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Gene.Rains@us.army.mil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CSC Point of Contr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ichard Bradshaw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LNO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DSN: 312-987-5130 Opt 1, 64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Comm: 732-427-5130 Opt 1, 64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richard.n.bradshaw@mmcs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r. Logistician:  Martina Pena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GOVT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obert Marti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ESSC- Manager - OI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SN: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312-987-5130 X446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M: 732-427-5130 X446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CECOM-ESSC@MMCS.army.mil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[ NAME ]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FSB-I (CECOM-MANTECH RSC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MP ANACONDA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, AE 0939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HL &amp; FEDEX  SHIPPING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SC ONLY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FRA  MANTECH (NAME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ennsylvania/Sustainer Circle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mp Anaconda,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alad, Iraq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0939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33"/>
          <p:cNvSpPr/>
          <p:nvPr/>
        </p:nvSpPr>
        <p:spPr>
          <a:xfrm>
            <a:off x="6904080" y="2538360"/>
            <a:ext cx="1440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ikrit, Iraq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B Speich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ODAA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W91M2B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I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W4GV34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anTech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arry Beckne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te Manage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 312-987-5130 ext. 844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: 732-427-5130 ext. 8449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arry.Beckner@us.army.mil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CSC Point of Contr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ichard Bradshaw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LNO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DSN: 312-987-5130 Opt 1, 64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Comm: 732-427-5130 Opt 1, 64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richard.n.bradshaw@mmcs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r. Logistician: Michael Manaois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GOVT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obert Marti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ESSC- Manager - OI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SN: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312-987-5130 X446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M: 732-427-5130 X446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-ESSC@MMCS.army.mil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[ NAME ]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RSC / ManTech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B Speiche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0939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HL &amp; FEDEX  SHIPPING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4ISR RSC – ManTech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ttn:  Larry Beckner 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ldg # 520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B Speicher, Tikrit Iraq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, AE 0939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34"/>
          <p:cNvSpPr/>
          <p:nvPr/>
        </p:nvSpPr>
        <p:spPr>
          <a:xfrm>
            <a:off x="8271000" y="2529000"/>
            <a:ext cx="1431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allil , Iraq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allil Airbas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ODAA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W90NDV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IC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W4GV66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ManTech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ill Camer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cting Site Manage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SN: 342-267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M; N/A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William.Cameron@ManTech.com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CSC Point of Contr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ichard Bradshaw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LNO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DSN: 312-987-5130 Opt 1, 64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nl-NL" sz="600" spc="-1" strike="noStrike">
                <a:solidFill>
                  <a:srgbClr val="000000"/>
                </a:solidFill>
                <a:latin typeface="Arial"/>
              </a:rPr>
              <a:t>Comm: 732-427-5130 Opt 1, 6479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richard.n.bradshaw@mmcs.army.m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ogistician: William Camer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GOVT Point Of Contact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obert Marti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 ESSC- Manager - OIF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SN: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312-987-5130 X446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M: 732-427-5130 X4463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COM-ESSC@MMCS.army.mil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[ NAME ]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MC-JLSE Compound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4ISR CECOM R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/O Bill Camer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l Taqaddum, Iraq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 09381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DHL &amp; FEDEX  SHIPPING: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MC-JLSE Compound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4ISR CECOM RSC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/O Randy Caswel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l Taqaddum, Iraq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PO AE  09381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5"/>
          <p:cNvSpPr/>
          <p:nvPr/>
        </p:nvSpPr>
        <p:spPr>
          <a:xfrm>
            <a:off x="4903920" y="595440"/>
            <a:ext cx="1428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nTech Project Lead: Pat Lusk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PHONE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703-488-2688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3c8c93"/>
                </a:solidFill>
                <a:uFillTx/>
                <a:latin typeface="Arial"/>
              </a:rPr>
              <a:t>Patrick.Lusk@ManTech.com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anagement Technologies (ManTech)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echnical Services Group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14119-A Sullyfield Circle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hantilly, VA 20151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PS and FEDEX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ame as US Mail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5"/>
          <p:cNvSpPr/>
          <p:nvPr/>
        </p:nvSpPr>
        <p:spPr>
          <a:xfrm>
            <a:off x="3246480" y="595440"/>
            <a:ext cx="13716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" rIns="4680" tIns="2520" bIns="2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SC Project Lead: Mike Barcla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PHONE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703-876-1351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3c8c93"/>
                </a:solidFill>
                <a:uFillTx/>
                <a:latin typeface="Arial"/>
              </a:rPr>
              <a:t>mbarclay@csc.com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US MAIL: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puter Sciences Corporation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efense Division North American Public Sector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3160 Fairview  Park Dr.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Falls Church, VA 22042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2517480" y="20484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04/02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3078000" y="1603440"/>
            <a:ext cx="353376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arolyn Palitt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ecutive Director – Ft. Monmouth Oper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968400" y="981000"/>
            <a:ext cx="7756560" cy="365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Tech – Ft. Monmouth NJ - Oper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2446200" y="2112840"/>
          <a:ext cx="5734080" cy="258840"/>
        </p:xfrm>
        <a:graphic>
          <a:graphicData uri="http://schemas.openxmlformats.org/drawingml/2006/table">
            <a:tbl>
              <a:tblPr/>
              <a:tblGrid>
                <a:gridCol w="249480"/>
                <a:gridCol w="747720"/>
                <a:gridCol w="758880"/>
                <a:gridCol w="498240"/>
                <a:gridCol w="3479760"/>
              </a:tblGrid>
              <a:tr h="258840">
                <a:tc>
                  <a:txBody>
                    <a:bodyPr lIns="98640" rIns="98640" tIns="49320" bIns="4932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8640" marR="9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8640" rIns="98640" tIns="49320" bIns="4932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r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8640" marR="9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8640" rIns="98640" tIns="49320" bIns="4932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cquelin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8640" marR="9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8640" rIns="98640" tIns="49320" bIns="4932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8640" marR="9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8640" rIns="98640" tIns="49320" bIns="49320" anchor="ctr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 Manager – Senior Lead 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(SMART-T)</a:t>
                      </a:r>
                      <a:r>
                        <a:rPr b="0" lang="en-US" sz="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8640" marR="9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712880" y="905040"/>
            <a:ext cx="6254640" cy="37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stern Regional Support Cente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RSC Bragg, RSC Gordon, RSC Campbell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75"/>
          <p:cNvSpPr/>
          <p:nvPr/>
        </p:nvSpPr>
        <p:spPr>
          <a:xfrm>
            <a:off x="4971960" y="1917720"/>
            <a:ext cx="432288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stern RSC Oper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5019840" y="2239920"/>
          <a:ext cx="4263840" cy="1565280"/>
        </p:xfrm>
        <a:graphic>
          <a:graphicData uri="http://schemas.openxmlformats.org/drawingml/2006/table">
            <a:tbl>
              <a:tblPr/>
              <a:tblGrid>
                <a:gridCol w="141120"/>
                <a:gridCol w="693720"/>
                <a:gridCol w="604800"/>
                <a:gridCol w="425520"/>
                <a:gridCol w="2398680"/>
              </a:tblGrid>
              <a:tr h="189000"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gad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pp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land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s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sevel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gh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zill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ch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onics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y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ir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ssistant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8880"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c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lan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oth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345960" y="2346480"/>
          <a:ext cx="4286520" cy="474480"/>
        </p:xfrm>
        <a:graphic>
          <a:graphicData uri="http://schemas.openxmlformats.org/drawingml/2006/table">
            <a:tbl>
              <a:tblPr/>
              <a:tblGrid>
                <a:gridCol w="166680"/>
                <a:gridCol w="612720"/>
                <a:gridCol w="669960"/>
                <a:gridCol w="466920"/>
                <a:gridCol w="2370240"/>
              </a:tblGrid>
              <a:tr h="15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uty Program Manager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l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ken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6" name="Text Box 260"/>
          <p:cNvSpPr/>
          <p:nvPr/>
        </p:nvSpPr>
        <p:spPr>
          <a:xfrm>
            <a:off x="334800" y="1927080"/>
            <a:ext cx="4216680" cy="30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JAN/ SATCOM PROJECT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61"/>
          <p:cNvSpPr/>
          <p:nvPr/>
        </p:nvSpPr>
        <p:spPr>
          <a:xfrm>
            <a:off x="2496960" y="171360"/>
            <a:ext cx="4699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4/02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80"/>
          <p:cNvSpPr/>
          <p:nvPr/>
        </p:nvSpPr>
        <p:spPr>
          <a:xfrm flipV="1" rot="10800000">
            <a:off x="326520" y="3021120"/>
            <a:ext cx="4218120" cy="231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RSC – FSSD GTL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81"/>
          <p:cNvSpPr/>
          <p:nvPr/>
        </p:nvSpPr>
        <p:spPr>
          <a:xfrm>
            <a:off x="2076480" y="1433520"/>
            <a:ext cx="5473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arry Gibb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B) Program Manager, Deputy – Senior Lead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82"/>
          <p:cNvSpPr/>
          <p:nvPr/>
        </p:nvSpPr>
        <p:spPr>
          <a:xfrm>
            <a:off x="3100320" y="4513320"/>
            <a:ext cx="331632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Lee Medi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EB) Program Manager, Deputy – Senior Lead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83"/>
          <p:cNvSpPr/>
          <p:nvPr/>
        </p:nvSpPr>
        <p:spPr>
          <a:xfrm>
            <a:off x="758880" y="4118040"/>
            <a:ext cx="8102520" cy="2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C Bragg, N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345960" y="5299200"/>
          <a:ext cx="4286520" cy="1617480"/>
        </p:xfrm>
        <a:graphic>
          <a:graphicData uri="http://schemas.openxmlformats.org/drawingml/2006/table">
            <a:tbl>
              <a:tblPr/>
              <a:tblGrid>
                <a:gridCol w="174600"/>
                <a:gridCol w="633600"/>
                <a:gridCol w="641160"/>
                <a:gridCol w="466920"/>
                <a:gridCol w="2370240"/>
              </a:tblGrid>
              <a:tr h="20772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we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Analy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ne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b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oph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92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i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INP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donad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r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ellic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rg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st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3" name="Text Box 457"/>
          <p:cNvSpPr/>
          <p:nvPr/>
        </p:nvSpPr>
        <p:spPr>
          <a:xfrm>
            <a:off x="343080" y="4984920"/>
            <a:ext cx="4217760" cy="21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C Bragg TWS SHOP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58"/>
          <p:cNvSpPr/>
          <p:nvPr/>
        </p:nvSpPr>
        <p:spPr>
          <a:xfrm>
            <a:off x="4975200" y="4973760"/>
            <a:ext cx="4218120" cy="21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C Bragg PSYOPS TEA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943520" y="5316480"/>
          <a:ext cx="4330800" cy="1349280"/>
        </p:xfrm>
        <a:graphic>
          <a:graphicData uri="http://schemas.openxmlformats.org/drawingml/2006/table">
            <a:tbl>
              <a:tblPr/>
              <a:tblGrid>
                <a:gridCol w="176040"/>
                <a:gridCol w="828720"/>
                <a:gridCol w="638280"/>
                <a:gridCol w="422280"/>
                <a:gridCol w="2265480"/>
              </a:tblGrid>
              <a:tr h="22716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ug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Representative Senior Lead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72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s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a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ppenhof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Quint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GIM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336600" y="3201840"/>
          <a:ext cx="4116240" cy="571680"/>
        </p:xfrm>
        <a:graphic>
          <a:graphicData uri="http://schemas.openxmlformats.org/drawingml/2006/table">
            <a:tbl>
              <a:tblPr/>
              <a:tblGrid>
                <a:gridCol w="141120"/>
                <a:gridCol w="615960"/>
                <a:gridCol w="614520"/>
                <a:gridCol w="363600"/>
                <a:gridCol w="2381040"/>
              </a:tblGrid>
              <a:tr h="190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zal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lin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AI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-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(TYA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AI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- Journeym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ckett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dd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-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176"/>
          <p:cNvSpPr/>
          <p:nvPr/>
        </p:nvSpPr>
        <p:spPr>
          <a:xfrm>
            <a:off x="4950000" y="2844720"/>
            <a:ext cx="4321080" cy="2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C Bragg Operations /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62"/>
          <p:cNvSpPr/>
          <p:nvPr/>
        </p:nvSpPr>
        <p:spPr>
          <a:xfrm>
            <a:off x="2496960" y="171360"/>
            <a:ext cx="4699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4/02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952880" y="3121200"/>
          <a:ext cx="4286520" cy="652320"/>
        </p:xfrm>
        <a:graphic>
          <a:graphicData uri="http://schemas.openxmlformats.org/drawingml/2006/table">
            <a:tbl>
              <a:tblPr/>
              <a:tblGrid>
                <a:gridCol w="136800"/>
                <a:gridCol w="693720"/>
                <a:gridCol w="612720"/>
                <a:gridCol w="428400"/>
                <a:gridCol w="2414880"/>
              </a:tblGrid>
              <a:tr h="230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ghtwe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v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Q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en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ipp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Q 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360" bIns="936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Analy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Text Box 502"/>
          <p:cNvSpPr/>
          <p:nvPr/>
        </p:nvSpPr>
        <p:spPr>
          <a:xfrm>
            <a:off x="396720" y="2851200"/>
            <a:ext cx="4219560" cy="204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C Bragg IEW Maintenance Divis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09680" y="3773520"/>
          <a:ext cx="4343400" cy="3151080"/>
        </p:xfrm>
        <a:graphic>
          <a:graphicData uri="http://schemas.openxmlformats.org/drawingml/2006/table">
            <a:tbl>
              <a:tblPr/>
              <a:tblGrid>
                <a:gridCol w="195120"/>
                <a:gridCol w="649440"/>
                <a:gridCol w="618840"/>
                <a:gridCol w="414360"/>
                <a:gridCol w="2465640"/>
              </a:tblGrid>
              <a:tr h="228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stro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t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h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-Journeyman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unc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og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lectronics Technician – Intermediate (Starts 4/19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36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bo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he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- Intermediate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kho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onics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n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g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 - Intermediate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48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rrily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6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tlin         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al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-Journeyman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n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ga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n Foss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onics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g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bri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 - Intermediate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2" name="Text Box 584"/>
          <p:cNvSpPr/>
          <p:nvPr/>
        </p:nvSpPr>
        <p:spPr>
          <a:xfrm>
            <a:off x="420840" y="3298680"/>
            <a:ext cx="4217760" cy="32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Jeffery Harbo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EM) Electronics Technician – Senior Lea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85"/>
          <p:cNvSpPr/>
          <p:nvPr/>
        </p:nvSpPr>
        <p:spPr>
          <a:xfrm>
            <a:off x="1712880" y="905040"/>
            <a:ext cx="6254640" cy="37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stern Regional Support Cente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RSC Bragg, RSC Gordon, RSC Campbell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86"/>
          <p:cNvSpPr/>
          <p:nvPr/>
        </p:nvSpPr>
        <p:spPr>
          <a:xfrm>
            <a:off x="2076480" y="1442880"/>
            <a:ext cx="5473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arry Gibb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B) Program Manager, Deputy – Senior Lead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87"/>
          <p:cNvSpPr/>
          <p:nvPr/>
        </p:nvSpPr>
        <p:spPr>
          <a:xfrm>
            <a:off x="3105000" y="2341440"/>
            <a:ext cx="331632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Lee Medi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EB) Program Manager, Deputy – Senior Lead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88"/>
          <p:cNvSpPr/>
          <p:nvPr/>
        </p:nvSpPr>
        <p:spPr>
          <a:xfrm>
            <a:off x="758880" y="1927080"/>
            <a:ext cx="8102520" cy="2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C Bragg, N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589"/>
          <p:cNvSpPr/>
          <p:nvPr/>
        </p:nvSpPr>
        <p:spPr>
          <a:xfrm>
            <a:off x="4929120" y="3948120"/>
            <a:ext cx="4219560" cy="21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C Bragg Production Control Sec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5000760" y="4175280"/>
          <a:ext cx="4227480" cy="1269720"/>
        </p:xfrm>
        <a:graphic>
          <a:graphicData uri="http://schemas.openxmlformats.org/drawingml/2006/table">
            <a:tbl>
              <a:tblPr/>
              <a:tblGrid>
                <a:gridCol w="172800"/>
                <a:gridCol w="662040"/>
                <a:gridCol w="593640"/>
                <a:gridCol w="424080"/>
                <a:gridCol w="2374920"/>
              </a:tblGrid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rero-Orti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-Intermediate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rra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S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 -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llhamm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wren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2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ylo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iam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9" name="Text Box 649"/>
          <p:cNvSpPr/>
          <p:nvPr/>
        </p:nvSpPr>
        <p:spPr>
          <a:xfrm>
            <a:off x="4894200" y="5703840"/>
            <a:ext cx="4219560" cy="21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C Bragg Logistic Sec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4962600" y="5978520"/>
          <a:ext cx="4267080" cy="1328760"/>
        </p:xfrm>
        <a:graphic>
          <a:graphicData uri="http://schemas.openxmlformats.org/drawingml/2006/table">
            <a:tbl>
              <a:tblPr/>
              <a:tblGrid>
                <a:gridCol w="174600"/>
                <a:gridCol w="630360"/>
                <a:gridCol w="625320"/>
                <a:gridCol w="401760"/>
                <a:gridCol w="2435040"/>
              </a:tblGrid>
              <a:tr h="14436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kin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t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h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berl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war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r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ra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es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08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cMill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av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erty Management Specialist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Nea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591"/>
          <p:cNvSpPr/>
          <p:nvPr/>
        </p:nvSpPr>
        <p:spPr>
          <a:xfrm>
            <a:off x="2496960" y="171360"/>
            <a:ext cx="4699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4/02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92"/>
          <p:cNvSpPr/>
          <p:nvPr/>
        </p:nvSpPr>
        <p:spPr>
          <a:xfrm>
            <a:off x="1712880" y="905040"/>
            <a:ext cx="6254640" cy="37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stern Regional Support Cente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RSC Bragg, RSC Gordon, RSC Campbell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93"/>
          <p:cNvSpPr/>
          <p:nvPr/>
        </p:nvSpPr>
        <p:spPr>
          <a:xfrm>
            <a:off x="2076480" y="1422360"/>
            <a:ext cx="5473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arry Gibb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B) Program Manager, Deputy – Senior Lead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94"/>
          <p:cNvSpPr/>
          <p:nvPr/>
        </p:nvSpPr>
        <p:spPr>
          <a:xfrm>
            <a:off x="3114720" y="2313000"/>
            <a:ext cx="331632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Lee Medi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EB) Program Manager, Deputy – Senior Lead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95"/>
          <p:cNvSpPr/>
          <p:nvPr/>
        </p:nvSpPr>
        <p:spPr>
          <a:xfrm>
            <a:off x="758880" y="1917720"/>
            <a:ext cx="8102520" cy="2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C Bragg, N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741"/>
          <p:cNvSpPr/>
          <p:nvPr/>
        </p:nvSpPr>
        <p:spPr>
          <a:xfrm>
            <a:off x="6819840" y="3541680"/>
            <a:ext cx="2465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742"/>
          <p:cNvSpPr/>
          <p:nvPr/>
        </p:nvSpPr>
        <p:spPr>
          <a:xfrm>
            <a:off x="6404040" y="3541680"/>
            <a:ext cx="415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743"/>
          <p:cNvSpPr/>
          <p:nvPr/>
        </p:nvSpPr>
        <p:spPr>
          <a:xfrm>
            <a:off x="5786280" y="3541680"/>
            <a:ext cx="617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44"/>
          <p:cNvSpPr/>
          <p:nvPr/>
        </p:nvSpPr>
        <p:spPr>
          <a:xfrm>
            <a:off x="5137200" y="3541680"/>
            <a:ext cx="649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745"/>
          <p:cNvSpPr/>
          <p:nvPr/>
        </p:nvSpPr>
        <p:spPr>
          <a:xfrm>
            <a:off x="4941720" y="3541680"/>
            <a:ext cx="195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776"/>
          <p:cNvSpPr/>
          <p:nvPr/>
        </p:nvSpPr>
        <p:spPr>
          <a:xfrm>
            <a:off x="4941720" y="3541680"/>
            <a:ext cx="1878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78"/>
          <p:cNvSpPr/>
          <p:nvPr/>
        </p:nvSpPr>
        <p:spPr>
          <a:xfrm>
            <a:off x="4941720" y="3541680"/>
            <a:ext cx="0" cy="1647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779"/>
          <p:cNvSpPr/>
          <p:nvPr/>
        </p:nvSpPr>
        <p:spPr>
          <a:xfrm>
            <a:off x="9285120" y="3541680"/>
            <a:ext cx="0" cy="1647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780"/>
          <p:cNvSpPr/>
          <p:nvPr/>
        </p:nvSpPr>
        <p:spPr>
          <a:xfrm>
            <a:off x="6819840" y="3541680"/>
            <a:ext cx="246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786"/>
          <p:cNvSpPr/>
          <p:nvPr/>
        </p:nvSpPr>
        <p:spPr>
          <a:xfrm>
            <a:off x="384120" y="2760840"/>
            <a:ext cx="4219560" cy="204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C Bragg FireFinder Maintenance Divis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787"/>
          <p:cNvSpPr/>
          <p:nvPr/>
        </p:nvSpPr>
        <p:spPr>
          <a:xfrm>
            <a:off x="396720" y="3110040"/>
            <a:ext cx="4219560" cy="32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rank Leona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EM) Electronics Technician – Senior Lea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88"/>
          <p:cNvSpPr/>
          <p:nvPr/>
        </p:nvSpPr>
        <p:spPr>
          <a:xfrm>
            <a:off x="4940280" y="2938320"/>
            <a:ext cx="4218120" cy="204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yetteville ECU Maintenance Division &amp; Shippin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789"/>
          <p:cNvSpPr/>
          <p:nvPr/>
        </p:nvSpPr>
        <p:spPr>
          <a:xfrm>
            <a:off x="4952880" y="3287880"/>
            <a:ext cx="4218120" cy="32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Jerry Turn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EM) Electronics Technician – Senior Lea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4952880" y="3676680"/>
          <a:ext cx="4602240" cy="2971800"/>
        </p:xfrm>
        <a:graphic>
          <a:graphicData uri="http://schemas.openxmlformats.org/drawingml/2006/table">
            <a:tbl>
              <a:tblPr/>
              <a:tblGrid>
                <a:gridCol w="115920"/>
                <a:gridCol w="681120"/>
                <a:gridCol w="770040"/>
                <a:gridCol w="431640"/>
                <a:gridCol w="2603520"/>
              </a:tblGrid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i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VAC Technici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Express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tellano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nth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v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-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n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an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nand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l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nig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gleman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hiel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LGIM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gistician  - Journeym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r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iam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 Specialist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Rectangle 230"/>
          <p:cNvSpPr/>
          <p:nvPr/>
        </p:nvSpPr>
        <p:spPr>
          <a:xfrm>
            <a:off x="615960" y="2174760"/>
            <a:ext cx="1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40"/>
          <p:cNvSpPr/>
          <p:nvPr/>
        </p:nvSpPr>
        <p:spPr>
          <a:xfrm>
            <a:off x="615960" y="4151160"/>
            <a:ext cx="19224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46"/>
          <p:cNvSpPr/>
          <p:nvPr/>
        </p:nvSpPr>
        <p:spPr>
          <a:xfrm>
            <a:off x="673200" y="2392200"/>
            <a:ext cx="1825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282600" y="3538440"/>
          <a:ext cx="4648320" cy="3881520"/>
        </p:xfrm>
        <a:graphic>
          <a:graphicData uri="http://schemas.openxmlformats.org/drawingml/2006/table">
            <a:tbl>
              <a:tblPr/>
              <a:tblGrid>
                <a:gridCol w="165240"/>
                <a:gridCol w="925200"/>
                <a:gridCol w="516240"/>
                <a:gridCol w="420480"/>
                <a:gridCol w="2621160"/>
              </a:tblGrid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er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w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on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li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NY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or Mechanic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ll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GJO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-Journeym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echowski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LGJO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ian-Journeym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t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hlenbe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or Mechanic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Labor Finder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n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ou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nol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Senior Lead 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eig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Rob 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FST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ield Service Tech-Journeym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au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or Mechanic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Labor Finder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ckn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ri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t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y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avl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m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yd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ter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or Mechanic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Express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NY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ield Service Tech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537"/>
          <p:cNvSpPr/>
          <p:nvPr/>
        </p:nvSpPr>
        <p:spPr>
          <a:xfrm>
            <a:off x="2496960" y="171360"/>
            <a:ext cx="4699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4/02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38"/>
          <p:cNvSpPr/>
          <p:nvPr/>
        </p:nvSpPr>
        <p:spPr>
          <a:xfrm>
            <a:off x="1712880" y="905040"/>
            <a:ext cx="6254640" cy="37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stern Regional Support Cente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RSC Bragg, RSC Gordon, RSC Campbell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39"/>
          <p:cNvSpPr/>
          <p:nvPr/>
        </p:nvSpPr>
        <p:spPr>
          <a:xfrm>
            <a:off x="2076480" y="1442880"/>
            <a:ext cx="5473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arry Gibb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B) Program Manager, Deputy – Senior Lead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40"/>
          <p:cNvSpPr/>
          <p:nvPr/>
        </p:nvSpPr>
        <p:spPr>
          <a:xfrm>
            <a:off x="3084480" y="2322360"/>
            <a:ext cx="331776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Gary Ern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EM) Electronics Technician – Senior Lead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41"/>
          <p:cNvSpPr/>
          <p:nvPr/>
        </p:nvSpPr>
        <p:spPr>
          <a:xfrm>
            <a:off x="758880" y="1957320"/>
            <a:ext cx="8102520" cy="2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C Gordon, G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3048120" y="2705040"/>
          <a:ext cx="3884400" cy="1515960"/>
        </p:xfrm>
        <a:graphic>
          <a:graphicData uri="http://schemas.openxmlformats.org/drawingml/2006/table">
            <a:tbl>
              <a:tblPr/>
              <a:tblGrid>
                <a:gridCol w="214200"/>
                <a:gridCol w="642960"/>
                <a:gridCol w="604800"/>
                <a:gridCol w="426960"/>
                <a:gridCol w="1995480"/>
              </a:tblGrid>
              <a:tr h="254160"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arro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rnes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ield Service Technician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Gre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Kev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Harre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Naa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lectronic Technician -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yonna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ri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spcBef>
                          <a:spcPts val="51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Pett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Stephan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Program Administrator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52440" indent="-352440"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Electronic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0" name="Text Box 586"/>
          <p:cNvSpPr/>
          <p:nvPr/>
        </p:nvSpPr>
        <p:spPr>
          <a:xfrm>
            <a:off x="766800" y="4686480"/>
            <a:ext cx="8102520" cy="24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C Campbell, K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030480" y="5168880"/>
          <a:ext cx="4286160" cy="216000"/>
        </p:xfrm>
        <a:graphic>
          <a:graphicData uri="http://schemas.openxmlformats.org/drawingml/2006/table">
            <a:tbl>
              <a:tblPr/>
              <a:tblGrid>
                <a:gridCol w="228600"/>
                <a:gridCol w="644760"/>
                <a:gridCol w="625320"/>
                <a:gridCol w="412560"/>
                <a:gridCol w="2374920"/>
              </a:tblGrid>
              <a:tr h="216000"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9000" bIns="9000" anchor="b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he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2354400" y="766800"/>
            <a:ext cx="503532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Hood, T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4ISR RSC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246240" y="2746440"/>
          <a:ext cx="4279680" cy="3408120"/>
        </p:xfrm>
        <a:graphic>
          <a:graphicData uri="http://schemas.openxmlformats.org/drawingml/2006/table">
            <a:tbl>
              <a:tblPr/>
              <a:tblGrid>
                <a:gridCol w="128520"/>
                <a:gridCol w="880920"/>
                <a:gridCol w="600120"/>
                <a:gridCol w="500040"/>
                <a:gridCol w="2170080"/>
              </a:tblGrid>
              <a:tr h="1713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xand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Q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ssistan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8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ssingam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ath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t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w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 (SE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ath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ry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 (TEMP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5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m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r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nand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5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lchris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ath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r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p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w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5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en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eri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ol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ing Manager/Technician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kens-John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y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vet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5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ing Manager/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la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on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llerm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perty Management Spec – Senior Lea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6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id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i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8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oth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 (LEA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tz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tt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Q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Analy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5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4883040" y="2828880"/>
          <a:ext cx="4591080" cy="854280"/>
        </p:xfrm>
        <a:graphic>
          <a:graphicData uri="http://schemas.openxmlformats.org/drawingml/2006/table">
            <a:tbl>
              <a:tblPr/>
              <a:tblGrid>
                <a:gridCol w="268560"/>
                <a:gridCol w="479160"/>
                <a:gridCol w="631800"/>
                <a:gridCol w="474840"/>
                <a:gridCol w="2736720"/>
              </a:tblGrid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nnic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gert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Collu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oly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r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zai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alist – Journeyman (LEA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m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Text Box 126"/>
          <p:cNvSpPr/>
          <p:nvPr/>
        </p:nvSpPr>
        <p:spPr>
          <a:xfrm>
            <a:off x="2517480" y="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04/02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27"/>
          <p:cNvSpPr/>
          <p:nvPr/>
        </p:nvSpPr>
        <p:spPr>
          <a:xfrm flipV="1" rot="10819200">
            <a:off x="5490720" y="4849560"/>
            <a:ext cx="306864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TSF Cable Shop- Ft Hood, T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4886280" y="5349960"/>
          <a:ext cx="4286160" cy="747720"/>
        </p:xfrm>
        <a:graphic>
          <a:graphicData uri="http://schemas.openxmlformats.org/drawingml/2006/table">
            <a:tbl>
              <a:tblPr/>
              <a:tblGrid>
                <a:gridCol w="230400"/>
                <a:gridCol w="620640"/>
                <a:gridCol w="623880"/>
                <a:gridCol w="417600"/>
                <a:gridCol w="2393640"/>
              </a:tblGrid>
              <a:tr h="16812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ou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ayn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Senior Lead (LEA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Z Jr.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Entry Lev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wand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 algn="ctr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jar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iam Z.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Entry Lev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Text Box 155"/>
          <p:cNvSpPr/>
          <p:nvPr/>
        </p:nvSpPr>
        <p:spPr>
          <a:xfrm flipH="1">
            <a:off x="391320" y="6497640"/>
            <a:ext cx="3094200" cy="29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all Y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Ft. Hoo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465120" y="6424560"/>
          <a:ext cx="3575160" cy="138240"/>
        </p:xfrm>
        <a:graphic>
          <a:graphicData uri="http://schemas.openxmlformats.org/drawingml/2006/table">
            <a:tbl>
              <a:tblPr/>
              <a:tblGrid>
                <a:gridCol w="98280"/>
                <a:gridCol w="560520"/>
                <a:gridCol w="469800"/>
                <a:gridCol w="230400"/>
                <a:gridCol w="2216160"/>
              </a:tblGrid>
              <a:tr h="1382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0" name="Text Box 168"/>
          <p:cNvSpPr/>
          <p:nvPr/>
        </p:nvSpPr>
        <p:spPr>
          <a:xfrm>
            <a:off x="557280" y="2166840"/>
            <a:ext cx="3046320" cy="331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4ISR RSC Oper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Ft. Hoo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69"/>
          <p:cNvSpPr/>
          <p:nvPr/>
        </p:nvSpPr>
        <p:spPr>
          <a:xfrm>
            <a:off x="5734080" y="2166840"/>
            <a:ext cx="3128760" cy="31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istics Operations/Production Contr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70"/>
          <p:cNvSpPr/>
          <p:nvPr/>
        </p:nvSpPr>
        <p:spPr>
          <a:xfrm>
            <a:off x="5629320" y="4038480"/>
            <a:ext cx="2970000" cy="400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ISO9000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Warren Burkle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ield Service Tech-Journeyma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71"/>
          <p:cNvSpPr/>
          <p:nvPr/>
        </p:nvSpPr>
        <p:spPr>
          <a:xfrm>
            <a:off x="3270240" y="1446120"/>
            <a:ext cx="3044880" cy="331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harles Vidak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DY) Management Specialist – Senior Lea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209520" y="6862680"/>
          <a:ext cx="4086360" cy="136440"/>
        </p:xfrm>
        <a:graphic>
          <a:graphicData uri="http://schemas.openxmlformats.org/drawingml/2006/table">
            <a:tbl>
              <a:tblPr/>
              <a:tblGrid>
                <a:gridCol w="154080"/>
                <a:gridCol w="600120"/>
                <a:gridCol w="533160"/>
                <a:gridCol w="266760"/>
                <a:gridCol w="2532240"/>
              </a:tblGrid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spcBef>
                          <a:spcPts val="201"/>
                        </a:spcBef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dl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1898640" y="1047600"/>
            <a:ext cx="57927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Hood, T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T Oper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3522600" y="2239920"/>
            <a:ext cx="2997360" cy="281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T / LBE Sup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230040" y="3022560"/>
          <a:ext cx="4321440" cy="2847960"/>
        </p:xfrm>
        <a:graphic>
          <a:graphicData uri="http://schemas.openxmlformats.org/drawingml/2006/table">
            <a:tbl>
              <a:tblPr/>
              <a:tblGrid>
                <a:gridCol w="185760"/>
                <a:gridCol w="703440"/>
                <a:gridCol w="414360"/>
                <a:gridCol w="374400"/>
                <a:gridCol w="2643480"/>
              </a:tblGrid>
              <a:tr h="1540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ver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6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v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oi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w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Senior Lead (LEAD)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wd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al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ff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J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Journeyman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i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PAI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dministrator – Intermediate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6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non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k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da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azi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gu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k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r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tch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la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ric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Analy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enberg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w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00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ert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a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 </a:t>
                      </a:r>
                      <a:r>
                        <a:rPr b="1" lang="en-US" sz="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TEK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efa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thal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g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ona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ne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 </a:t>
                      </a:r>
                      <a:r>
                        <a:rPr b="1" lang="en-US" sz="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TEK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n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60360" indent="-360360">
                        <a:tabLst>
                          <a:tab algn="l" pos="0"/>
                          <a:tab algn="l" pos="961920"/>
                          <a:tab algn="l" pos="1924200"/>
                          <a:tab algn="l" pos="2886120"/>
                          <a:tab algn="l" pos="3848040"/>
                          <a:tab algn="l" pos="4809960"/>
                          <a:tab algn="l" pos="5772240"/>
                          <a:tab algn="l" pos="6734160"/>
                          <a:tab algn="l" pos="7696080"/>
                          <a:tab algn="l" pos="8658360"/>
                          <a:tab algn="l" pos="9620280"/>
                          <a:tab algn="l" pos="105822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Text Box 126"/>
          <p:cNvSpPr/>
          <p:nvPr/>
        </p:nvSpPr>
        <p:spPr>
          <a:xfrm>
            <a:off x="2517480" y="190440"/>
            <a:ext cx="4658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4ISR REGIONAL SUPPORT CENTERS – WORLDW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5P7T-06-D-E404 / D.O. 003 / CDRL A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: 04/02/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27"/>
          <p:cNvSpPr/>
          <p:nvPr/>
        </p:nvSpPr>
        <p:spPr>
          <a:xfrm>
            <a:off x="3500280" y="1731960"/>
            <a:ext cx="3044880" cy="331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harles Vidak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erty Management Specialist - Journeyma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570560" y="3035160"/>
          <a:ext cx="4941720" cy="2382840"/>
        </p:xfrm>
        <a:graphic>
          <a:graphicData uri="http://schemas.openxmlformats.org/drawingml/2006/table">
            <a:tbl>
              <a:tblPr/>
              <a:tblGrid>
                <a:gridCol w="207720"/>
                <a:gridCol w="693720"/>
                <a:gridCol w="743040"/>
                <a:gridCol w="434880"/>
                <a:gridCol w="2862360"/>
              </a:tblGrid>
              <a:tr h="12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m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hew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iam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Ke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ymon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Analyst-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endez-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riqu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i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chell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v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eld Service Analyst –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zar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-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s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Techn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ke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ai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u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mack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FS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Analyst – Senior Lead </a:t>
                      </a:r>
                      <a:r>
                        <a:rPr b="1" lang="en-US" sz="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ni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Clerk -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wde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my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LT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s Technician – Senior Lead 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CSC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n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 </a:t>
                      </a:r>
                      <a:r>
                        <a:rPr b="1" lang="en-US" sz="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TEK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ez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ph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Journeyman </a:t>
                      </a:r>
                      <a:r>
                        <a:rPr b="1" lang="en-US" sz="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TEK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for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oph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 Service Technician – Intermediat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41400"/>
                          <a:tab algn="l" pos="1882800"/>
                          <a:tab algn="l" pos="2824200"/>
                          <a:tab algn="l" pos="3765600"/>
                          <a:tab algn="l" pos="4707000"/>
                          <a:tab algn="l" pos="5648400"/>
                          <a:tab algn="l" pos="6589800"/>
                          <a:tab algn="l" pos="7531200"/>
                          <a:tab algn="l" pos="8472600"/>
                          <a:tab algn="l" pos="9414000"/>
                          <a:tab algn="l" pos="10355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 Management Specialist - Journeyma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3:25:59Z</dcterms:created>
  <dc:creator/>
  <dc:description/>
  <cp:keywords/>
  <dc:language>en-US</dc:language>
  <cp:lastModifiedBy/>
  <dcterms:modified xsi:type="dcterms:W3CDTF">2010-04-02T16:26:42Z</dcterms:modified>
  <cp:revision>44</cp:revision>
  <dc:subject>A001</dc:subject>
  <dc:title>SWA Organization Chart</dc:title>
</cp:coreProperties>
</file>